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39760" y="693360"/>
            <a:ext cx="45784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5E32DD-9EC1-4925-83D2-73C57BB2B4BB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EBA81C-473A-4028-A5EE-4417AFD101BB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2BAAD6-129B-4DE3-A563-93B5483BD89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7ED12E-0C83-4085-9738-D865A25D4A0A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C04E93-2AAD-4311-A53B-8121BBE7A367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C53DE4-6763-432F-9317-89DDBE5489D1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24A953-B145-49FC-A99B-E7C5C2A5D420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7597ED-7E68-4614-9891-C44FA6EF869A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37E075-EFF2-4997-B809-46B0F4F61110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3B3D10-B823-40AB-928F-E5E8B29E7DE8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C28E76-4682-485B-A3B0-7D9DCC77DC9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E54E92-D350-4F65-A182-FB14C4E20FDE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41DFDE-62A6-446A-93D9-DA28EAD296CB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1847BD-7569-450F-8C45-A7ADE8A0646E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7F7242-4B14-43C5-943A-93AC1AB69D95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0BDBD8-DD24-4C5A-8A2A-9695A52E7458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050F5F-494A-4AF9-BDD4-824AEB154F7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830E1E-C18F-4054-A7E7-9965B5808A5A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4B1A64-4654-4FB8-9C05-379028BCAD80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0F1E42-0B3D-493B-B472-FD2A7970CBDD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267D77-86B4-4DB0-9FC9-0459862B6C5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6A9DB5-F52D-4ED5-A270-79434A3910C4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765807-0AA3-41E3-97F6-E68366CE30E1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429946-7A30-4B76-B124-B63CFF355A2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C468B1-E2B1-4EF5-AF3F-1DD000E6A7FE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954F7E-79CC-46A0-AC52-B5C655026B5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7CF4E9-E8BC-4926-8F56-EDB0ED31E23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8F66A8-F4BE-43A8-801A-8FA831546DBF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B892AC-6B41-485C-AF5D-75FE3DAB4007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7A93E0-8CBE-412D-9BC4-98CBAC12111A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35063F-0BDB-4BC5-BBEC-09285656BBBE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FD7047-0FC4-4044-8394-D3F17AB0BF2F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CFE4D5-58F8-4103-850B-12E77931447A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028-C8B0-4C34-9415-D68E2C50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A76-AE66-4DFC-8436-74AEDFD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763-191F-4310-8998-65EAE38C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F94-0369-42BA-B31E-67AA4C39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C028-57C5-464F-8926-F0D72EB4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E13A-82B9-4AE6-B53A-1686933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43B5-4C57-43C9-977E-0BC417E8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8DDB-FC88-4D1D-8634-7E5B1931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B75-D6BF-4ABF-A3C9-9A8AD918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276F-D723-4FE8-8B1B-95765082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439-C713-4EEE-BD94-44B096B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3D8-C9A6-4794-A6BB-D6212B9F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02C1-E2CF-43C7-B756-3353B70C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521C-128F-4DE9-89F9-40D8F11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DD89-1AF0-4246-8370-CD27E0F8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826-C8B2-43E7-AFBC-3135ECAF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9B4-2CEA-4F12-8F31-6671EB5B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10E-EE90-4EBA-B271-B6495B0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239-7A5B-4B74-86B2-5F387E6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1F2-D247-4B86-A6C8-9C8C5A7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AB9-8BEB-49E7-A2ED-F5AFD4C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C1C-592A-4314-B2E1-CDE1A9EF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F86-4840-4181-BF23-54510DA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BDC-FFCC-4AB5-B980-0DD702F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41D-FDC6-4DE8-87A8-2C6515B6CDF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516-AC1D-4502-8799-6124927DD69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7C7-2672-49D9-A629-C4E5851D11D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ka I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971640" y="5734080"/>
            <a:ext cx="7529400" cy="34542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6" name="Object 14"/>
          <p:cNvGraphicFramePr/>
          <p:nvPr/>
        </p:nvGraphicFramePr>
        <p:xfrm>
          <a:off x="7885080" y="5732640"/>
          <a:ext cx="10987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5732640"/>
                    <a:ext cx="10987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7"/>
          <p:cNvSpPr/>
          <p:nvPr/>
        </p:nvSpPr>
        <p:spPr>
          <a:xfrm>
            <a:off x="2629800" y="3143160"/>
            <a:ext cx="434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Objednací systém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Obdélník 6"/>
          <p:cNvSpPr/>
          <p:nvPr/>
        </p:nvSpPr>
        <p:spPr>
          <a:xfrm>
            <a:off x="2428920" y="5357880"/>
            <a:ext cx="4572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náška č.5</a:t>
            </a: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00080" y="1928880"/>
            <a:ext cx="78868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acuje s objednací úrovní (B), což vede k proměnlivým okamžikům objednávání, a s pevným objednacím množstvím (Q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značuje se jako systém objednacího množství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př. objednávka k doplnění zásob ve výši (Q) se podává ihned od okamžiku, kdy ekonomická zásoba klesne na objednací úroveň (B) nebo pod ní, stav zásoby se s úrovní (B) porovnává průběžně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85E-B444-4300-B42C-67EC5B348C9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ystém B, Q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28760" y="178560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28800" y="1785960"/>
            <a:ext cx="800100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ovení objednací úrovně je založeno na očekávané spotřebě (d) v průběhu dodací lhůty (L) a pojistné zásobě (Zp), jejíž výši lze odvodit pomocí pravděpodobnosti, že skutečná poptávka během dodací lhůty bude větší než předvídaný odběr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ličiny (B) a (Q) jsou známy předem a musí být periodicky přizpůsobeny ke změnám např. v poptávce nebo dodací lhůtě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tí: B = d.L + Zp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30BE-164C-4371-95D2-4D2F922F3A6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ystém B, Q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00080" y="2000160"/>
            <a:ext cx="788688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oduje se se systémem (B, Q) s tím rozdílem, že se neobjednává pevné množství (Q), ale že se vždy objednává do cílové úrovně (S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 tomto systému se stanoví úroveň (B) jako u systému (B, Q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ílová úroveň (S) se vypočte jako součet objednací úrovně (B) a velikosti dávky (Q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tí: S = B + Q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2681-06CD-4F4C-B8E0-344D32B7D00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ystém B, 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85880" y="1727280"/>
            <a:ext cx="82152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yznačuje se objednací úrovní (s) s pevným okamžikem objednání a pevným objednacím množstvím (Q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 rozdíl od (B) systémů, u nichž se provádí akce ihned po dosažení nebo podkročení objednací úrovně (B), je u (s) systémů testován vztah výše zásoby a objednací úrovně pouze periodick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u systémů s periodickou kontrolou zásoby je čas, který uplyne od prvního podkročení objednací úrovně (B) do okamžiku nejbližší kontroly náhodný, v průměru se rovná polovině kontrolního intervalu (I).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4B9-DA09-49D4-854E-87F7BFBC36D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ystém s, Q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928800" y="2071800"/>
            <a:ext cx="7632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by byl signál o potřebě objednat vydáván při výši dispoziční zásoby v průměru rovné d.L + Zp, je třeba oproti tomuto průměru zvýšit objednací úroveň (B) o očekávanou velikost poptávk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bjednací úroveň (B) musí být proto dimenzována tak, aby dispoziční zásoba měla při vydání signálu v průměru velikost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 = d.(L + 0,7. I) + Zp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A12-B6A7-4C51-BB7C-9CFAD2DD8FF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ystém s, Q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57160" y="1928880"/>
            <a:ext cx="814392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 to periodický systém, ale s proměnným objednacím množstvím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periodickém zjišťování stavu zásoby se doobjednávají ty položky, jejichž ekonomická zásoba klesla pod úroveň (s), do cílové úrovně (S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ílová úroveň má stejnou výši jako u systému (B, S), tzn.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 = B + Q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67A-DFE7-497C-9424-15867E02EEE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ystém s, 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71640" y="1785960"/>
            <a:ext cx="763272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ální hladina je skutečným řídícím parametrem pro nastavení pojistné zásoby v praxi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 to taková úroveň zásoby konkrétní položky, při které je nutno okamžitě objednat doplnění zásoby (doobjednat optimální velikost dávky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ální hladina bude tedy vypočtena jako hodnota pojistné zásoby zvýšená o očekávanou spotřebu mezi okamžikem objednání a okamžikem dodání (viz obrázek)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A649-BDFE-4BC9-96E7-92E7C60EE58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ignální hladina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z obrázek na tabul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1640" y="1700280"/>
            <a:ext cx="76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3813-E5DF-4123-8FFB-5127705589B6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ignální hladina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28760" y="1857240"/>
            <a:ext cx="85010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ojistná zásoba se vytváří v objednacích systémech pro zásoby s nezávislou poptávkou za tím účelem, aby do určité míry zachycovala odchylky zásobovacího procesu od očekávaného (průměrného) průběhu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odchylky mohou vznikat jak na straně vstupu (v termínech dodávek k doplnění zásoby), tak na straně výstupu (ve velikosti poptávek či spotřeby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u pojistné zásoby se zajímáme o odchylky zmenšující zásobu (pozdější okamžik dodávky, vyšší poptávka)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9CB6-CCA7-4C98-951A-1A94D12CE7C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jistná zásob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000080" y="2071800"/>
            <a:ext cx="7632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třebná velikost pojistné zásoby závisí na požadované spolehlivosti zabezpečení proti odchylkám a na očekávané intenzitě těchto odchylek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většování pojistné zásoby se projeví růstem úrovně služeb zákazníkům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k je vidět, tento růst se stále zpomaluje (viz obrázek)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75C-0917-4240-AC72-410B7E95F03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jistná zásob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2C0C-14B2-4489-97E4-EB12FBC96F5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bsah přednášk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143000" y="1791360"/>
            <a:ext cx="728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Úvo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Využití objednacích systémů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Základní veličiny objednacích systémů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Druhy objednacích systémů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Signální hladina zásob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ojistná zásob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ABC analýz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Metody řízení a plánování zásob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říklad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z obrázek na tabul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613E-E3F5-47C7-9348-87FC2730509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ztah mezi výší pojistné zásoby a úrovní služeb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714240" y="1785960"/>
            <a:ext cx="8286840" cy="48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velikost pojistné zásoby je odvozena z ekonomické úvahy – od optimální úrovně dodavatelských služeb,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chceme-li zabezpečit rostoucí úroveň dodavatelských služeb, povede to mimo jiné k rostoucí velikosti pojistné zásoby a také k vyšším nákladům na držení zásob,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na druhé straně se při zvyšující se pojistné zásobě snižují náklady z nedostatku zásob, 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optimální velikost pojistné zásoby je maximem rozdílu mezi úsporou nákladů z nedostatku a nákladů na držení pojistné zásoby. 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7DB1-B339-447E-A948-1F9504A1FC9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Velikost pojistné zásob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000080" y="1928880"/>
            <a:ext cx="792180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působy stanovení pojistné zásoby mohou být různé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á zásoba může být stanovena odhadem, intuitivně anebo výpočtem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počet pojistné zásoby se opírá o teorii pravděpodobnosti a statistiku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40E5-9685-4441-9B9F-2F8D8322660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tanovení pojistné zásob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971640" y="2205000"/>
            <a:ext cx="770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tody, které se aplikují při plánování a řízení zásob můžeme rozdělit do dvou velkých skupin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E8CE-8208-4C6E-890A-812D7BC997C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etody plánování a 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57160" y="1785960"/>
            <a:ext cx="828684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metody založené na normativních podkladec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používají se pro výpočet plánované budoucí spotřeby materiálů, které vykazují proměnlivou proporcionální závislost objemu spotřeby na objemu výkonů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sou nazývány také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metodami přímého propočtu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dná se o pracné metody, které však mohou přinést relativně přesné výsledk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pokladem jejich použití je lineární přímá nebo nepřímá závislost mezi objemem produkce a rozsahem spotřeb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45C-DEA8-435D-B250-ED8894F3BD8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etody plánování a 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71640" y="2205000"/>
            <a:ext cx="7886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metody založené na statistických podkladec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jejich základním jsou statistické údaje o minulé spotřebě a jsou vhodné pro výpočet plánované spotřeby, která nevykazuje proporcionálně proměnlivou závislost na objemu výkonů anebo v případech, kdy nejsou k dispozici normy spotřeby materiálu, popř. tehdy, když neznáme objem plánovaných výkonů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1196-7172-43EB-B18C-F3A7D04B653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etody plánování a 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857160" y="1773360"/>
            <a:ext cx="807264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v oblasti plánování a řízení zásob se používají i další metody, které by bylo možno dále členit do dalších skupin a podskupin, a které jsou svým použitím specifické pro jednotlivé oblasti,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díky prudkému rozvoji výpočetní techniky se začaly používat i následující metody: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ABC analýza,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Zero Inventory (nulové zásoby),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SIC (statistické řízení zásob),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MRP (plánování výrobních zdrojů),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TOC (teorie úzkých míst),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3366"/>
                </a:solidFill>
                <a:latin typeface="Arial"/>
              </a:rPr>
              <a:t>JIT (právě včas).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5E3-CA82-43A8-9B9A-0BFC867A7C1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etody plánování a řízení zásob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428760" y="1857240"/>
            <a:ext cx="8464320" cy="46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ABC analýza vychází z Paretova principu, který říká, že ve většině případů je přibližně 8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%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 důsledků vyvoláno pouze 2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%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všech možných příčin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tento princip vede k selekci problémů a k určení priorit při jejich řešení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ři řízení je pak nezbytné se zaměřit na tuto podstatnou menšinu možných příčin (zásoby, zákazník, dodavatelé atd.)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14F-1AC5-4E47-9269-A82783228E8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BC analýz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857160" y="1700280"/>
            <a:ext cx="81439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likace ABC analýzy v řízení zásob vychází ze sestupného uspořádání položek nakupovaného, resp. Skladovaného sortimentu podle hodnoty obratu a kumulovaných hodnot obratu od počátku posloupnosti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 zvolené kritérium se určí v této posloupnosti hranice mezi podmnožinou položek skupiny A, B a C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dstata ABC analýzy spočívá v klasifikaci sledovaných jevů na tři skupiny A, B, C nebo více skupin, přičemž každé za skupin by měla být věnována různá pozornos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B7D-0DF5-4A21-9051-E99E7CB65AE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BC analýz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28800" y="1700280"/>
            <a:ext cx="807228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upina A je tvořena malým počtem položek s klíčovým podílem na celkovém objemu zásob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to položky jsou životně důležité a je nutno se jimi zabývat detailně a individuálně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becně platí, že výrobky zařazené do skupiny A mají pro výrobu rozhodující význam a proto vyžadují pravidelnou kontrolu při objednávání i skladování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íky své vysoké hodnotě by každé zbytečné skladování znamenalo nepotřebné umrtvení kapitálu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657-6632-46F6-811E-1941C317075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Klasifikace skupin A, B, 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00080" y="2143080"/>
            <a:ext cx="7272360" cy="34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Používají se k řízení zásob jednotlivých skladových položek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3366"/>
              </a:buClr>
              <a:buSzPct val="120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  <a:ea typeface="Arial"/>
              </a:rPr>
              <a:t>Signál o potřebě vystavit objednávku je v nich vydáván při poklesu dispoziční zásoby pod tzv. objednací úroveň (B) neboli signální hladinu.</a:t>
            </a:r>
            <a:br>
              <a:rPr sz="2400"/>
            </a:br>
            <a:r>
              <a:rPr b="1" lang="cs-CZ" sz="24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bjednací systém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A748-F78C-4F08-AB0D-9AC5E9B9183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857160" y="1700280"/>
            <a:ext cx="803592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upina B je tvořena větším počtem položek než skupina A, ale její podíl na celkovém objemu zásob je nižší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upina C zahrnuje největší počet položek ale jejich podíl na celkovém objemu zásob je nepatrný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ožky skupiny C vyžadují nejmenší pozornost, protože ekonomický význam je relativně malý (tzv. triviální většina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vedené položky tak mohou být skladovány po delší dobu bez dopadu na ekonomiku výroby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E60C-9BFD-462E-8670-AB7EFFE0E8D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Klasifikace skupin A, B, 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57160" y="1700280"/>
            <a:ext cx="814392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zásoby mohou být kategorizovány podle různých kritérií, například skladový sortiment, spotřeba zásob v hodnotovém vyjádření nebo v jednotkách množství, příspěvek k zisku, náklady na zásoby, hodnota obratu atd.,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vždy je potřeba přihlížet k účelu, pro který je analýza prováděna,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je zřejmé, že přesná matematická závislost 80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%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 na 20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%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v praxi neexistuje, 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3366"/>
                </a:solidFill>
                <a:latin typeface="Arial"/>
              </a:rPr>
              <a:t>obecné pravidlo ale konstatuje, že vztah mezi výčtem možných příčin a následky je vždy nelineární (viz obrázek).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EBA-0097-4D7F-96B9-BBEFCCE18FF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BC analýz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Viz obrázek na tabul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256-B953-4460-A8C0-1BFCF61ABD8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aretův 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143000" y="2286000"/>
            <a:ext cx="771516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menzuje se tak, aby s požadovanou spolehlivostí pokryla poptávku v době od vydání signálu o potřebě až po příjem příslušné dodávky do skladu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uto dobu nazýváme rozšířenou dodací lhůtou nebo pořizovací lhůtou a označujeme ji (L)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A0CD-845A-4FF7-908A-AD8A1488CDE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Objednací úroveň (B) neboli signální hladin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14280" y="2357280"/>
            <a:ext cx="6958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) k řízení zásoby v bodu rozpojení s objednávkou zákazníka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) k řízení zásob z nejrůznějších pomocných a režijních materiálů, nástrojů a pomůcek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F44-07FD-439F-979E-0BDE30A4E2D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užití objednacích systém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85880" y="2060280"/>
            <a:ext cx="7929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214280" y="2143080"/>
            <a:ext cx="771552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pověď budoucí poptávk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počet optimální velikosti dávk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ovení pojistné zásob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ovení optimální úrovně dodavatelských služeb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ovení objednací úrovně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DB8D-0D56-464E-AE0D-44D2D918203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3366"/>
                </a:solidFill>
                <a:latin typeface="Arial"/>
              </a:rPr>
              <a:t>Systémy řízení zásob se soustřeďují na:</a:t>
            </a:r>
            <a:endParaRPr b="1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71640" y="2205000"/>
            <a:ext cx="72723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ytmus objednání – může být konstantní nebo proměnlivý. Položku můžeme objednávat ve zcela pravidelném rytmu nebo v nepravidelných intervalech v závislosti např. na aktuálním stavu zásoby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likost objednací dávky – může být buď konstantní nebo proměnlivá. Objednávka může tedy znít na stejné množství nebo může být upravována dle aktuálních potřeb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34D-E327-4065-8F8C-17B8737E386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3366"/>
                </a:solidFill>
                <a:latin typeface="Arial"/>
              </a:rPr>
              <a:t>Dva pohledy na proces objednávání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57160" y="2205000"/>
            <a:ext cx="814392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ůměrná délka dodací lhůty (L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čekávaná potřeba (d) za jednotku času (ta může být například výsledkem predikování poptávky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konomická (či optimální) velikost dávky (Q)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á zásoba (Zp)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DA5B-A2BB-41D7-AA7C-B8B83A5994C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Základní veličiny objednacích systémů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0920" y="1844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8840" y="2143080"/>
            <a:ext cx="691524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stém B, Q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stém B, 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stém s, Q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stém s, 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372-DC2E-4479-8A31-008E89FE7E2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Základní objednací systém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9:00:10Z</dcterms:created>
  <dc:creator>Danuše Bauerová</dc:creator>
  <dc:description/>
  <dc:language>en-US</dc:language>
  <cp:lastModifiedBy>sed02</cp:lastModifiedBy>
  <cp:lastPrinted>1998-09-10T10:11:28Z</cp:lastPrinted>
  <dcterms:modified xsi:type="dcterms:W3CDTF">2010-03-01T12:44:59Z</dcterms:modified>
  <cp:revision>299</cp:revision>
  <dc:subject/>
  <dc:title>bez titulu</dc:title>
</cp:coreProperties>
</file>