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39760" y="693360"/>
            <a:ext cx="45784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9520A4-183E-4DE3-B7CC-00001BAC51BF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B3C65F-8F58-4389-8200-D46AFFE0578C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84A-75CB-4ED7-9DB3-149C26C5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64F-3416-4F2C-BC80-57F3401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EBE-5AD2-4CBF-A103-EF949A7D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2E2-D52B-4541-88DE-63FE25C0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B48-B03D-483B-A49F-921549D3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A47-0BEB-4EA0-9B7F-95124CA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4811-9276-4664-A235-1F59C19D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113F-B571-4367-94BD-2A066010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BED-41DB-4D4A-A8AA-85794DD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62A5-6716-412C-A0AF-E9A0FF1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EC7-C241-49EF-81AA-2EBEE93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1D1-E7ED-4593-8792-1D033E9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47B-07BF-4FE2-82E2-6123804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A1F6-E4F6-4AC0-8B3C-2DF1A1B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4EAB-FCD0-4152-BFC7-6A5984C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42A5-FD14-4D12-A70F-E0D6B565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1193-C1B9-4BFB-8CDF-780F0241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AE96-9403-4773-90D0-961F3E39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BF2F-E022-4E2C-81A3-BA8E1FE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974C-9887-43AB-AAAE-21D1872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CE63-EA13-4416-8D5F-7CB9C4B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BF76-B218-4C22-96CC-C24EB4F5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578-8834-4A71-A7A8-49E6B13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B420-9E1B-45A5-A470-7201FB62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2375-4791-469C-9DAE-0AA0610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1726-BA92-4A3D-8BF6-9DC9B87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1FA2-B967-4F30-9EB6-47A81D8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4AF5-C29A-479A-B04B-23F501F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28BA-5C4F-4526-86C7-6524E3F2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C87A-A81D-4CE3-AF25-60B8230A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514F-2BC1-4C58-AC35-0169E90C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0471-52A7-4403-A69D-E23AFB0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4E6B-17AD-47CB-A274-D878DA1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B30-8694-47CA-87C2-59C82ED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7B0A-920C-42EF-9993-AF195E4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A0E3-D4FD-4E9C-9881-8A2708D9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37B6-83DC-4A71-B423-3394979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2777-54F6-450A-8643-3F3470B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57A8-83A3-4635-AF78-95A8E0B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51BE-A7FD-4BA4-B230-8795B68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8786-4356-4455-BD15-B8E96F2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C9D5-0444-4994-8E8D-D5245B4C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E0D4-4982-46B2-8543-33B6A5D6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FD6-4D99-4DD3-9F10-5F39517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9ED-3681-491E-BBE8-6A93F3C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60F-86BE-4C6C-A903-DAD9434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6E8-9C26-48C3-9287-8D079090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0BF-355E-41B4-A8CE-82087DD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B628-E8BD-4F00-A6D6-B26E8B5E088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CF5-A8A8-4D77-90B4-03206D674A1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FD0-B3C1-486C-B6D9-A6225C2FEC6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4A9-7AA5-466F-A0CB-D110BD05E8F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15D-56C9-4221-B600-DB7F6B87042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971640" y="5734080"/>
            <a:ext cx="7529400" cy="3454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náška č.2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2" name="Object 14"/>
          <p:cNvGraphicFramePr/>
          <p:nvPr/>
        </p:nvGraphicFramePr>
        <p:xfrm>
          <a:off x="7885080" y="5732640"/>
          <a:ext cx="10987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5732640"/>
                    <a:ext cx="10987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7"/>
          <p:cNvSpPr/>
          <p:nvPr/>
        </p:nvSpPr>
        <p:spPr>
          <a:xfrm>
            <a:off x="3209760" y="342900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Řízení zásob 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8001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strategické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zabezpečují podnik před nepředvídatelnými situacemi (válka, stávka, živelná pohroma). O vytvoření rozhoduje top mana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spekulač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vytvářejí se ve snaze docílit úspor zejména při nákupu základních surovin při předpokládaném zvýšení cen vstupů. Jedná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e o předzásobe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bez funk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(jakékoliv neprodejné nebo nevyužitelné zásoby, které vznikají v důsledku nedostatečného sladění podnikových funkcí nebo jednotlivých prvků materiálového toku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ělení zásob dle jejich funk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96D5-0121-40B3-B2DD-5CA2DB8B4BD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85520" y="1785960"/>
            <a:ext cx="83581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4880" indent="-344880" algn="just">
              <a:lnSpc>
                <a:spcPct val="80000"/>
              </a:lnSpc>
              <a:spcBef>
                <a:spcPts val="1576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technologické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- nalézají se momentálně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 opracování na pracovištích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4880" indent="-344880" algn="just">
              <a:lnSpc>
                <a:spcPct val="80000"/>
              </a:lnSpc>
              <a:spcBef>
                <a:spcPts val="1576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doprav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- nalézají se v dopravě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manipulac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4880" indent="-344880">
              <a:lnSpc>
                <a:spcPct val="80000"/>
              </a:lnSpc>
              <a:spcBef>
                <a:spcPts val="1576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opravářské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– předzásobení meziprodukty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 příslušném stádiu rozpracovanosti pro případ plánovaných oprav na daném pracovišt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4880" indent="-344880" algn="just">
              <a:lnSpc>
                <a:spcPct val="80000"/>
              </a:lnSpc>
              <a:spcBef>
                <a:spcPts val="1576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pojistné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- rezerva pro případ poruch pracoviště, zlomení nástroje, nedodržení rytmu předchozím pracovištěm apod.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4880" indent="-344880" algn="just">
              <a:lnSpc>
                <a:spcPct val="80000"/>
              </a:lnSpc>
              <a:spcBef>
                <a:spcPts val="1576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čekac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- vznikají jako důsledek různého rytmu navazujících pracovišť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Zásoby rozpracova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58E-CD7E-47DA-9696-AC2E085AD38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79293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ěžné (obratové)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- mají zajistit předpokládanou spotřebu v období mezi dvěma dodávkami, jejich výše kolísá od maximálního stavu v den dodávky k minimálnímu stavu těsně před dodávko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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ojistné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- vyrovnávají případné odchylky v dodávkách nebo ve spotřebě.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143240" y="1785960"/>
                <a:ext cx="100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2786040" y="5000760"/>
                <a:ext cx="9032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FC8E-2569-4327-926D-B33BBA5BED1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Rozpojovací zásob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56800" y="178596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 účely řízení zásob (za předpokladu stejnoměrné poptávky) rozlišujeme průměrnou fyzickou zásob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ůměrná fyzická zásoba je důležitá především z hlediska vázanosti finančních prostředků v zásobách. Jedná se o aritmetický průměr velikosti denní zásoby za určité období, kterým může být rok, sezónní období aj. Označujeme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ji symbolem Z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ůměrná fyzická zásoba (Zc), je součtem obratové /běžné/ zásoby a zásoby pojistné. Platí tudíž vzta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4D0-390C-499A-B2A0-85F8C7D8CCD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růměrná fyzická zásob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59240" y="2003760"/>
            <a:ext cx="6636960" cy="12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obratová zásoba + pojistná zásob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357200" y="3214440"/>
            <a:ext cx="7392960" cy="34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2714760" y="3668760"/>
                <a:ext cx="35002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CBB-7870-4DE4-BA32-413AFFC6C3C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růměrná fyzická zásob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inimál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stav zásoby v okamžiku před novou dodávkou, pokud byla vyčerpána běžná zásob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aximál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představuje nejvyšší (maximální stav) zásob, kterého je dosaženo v okamžiku nové dodávk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572-0877-44E7-A953-862AC0D679C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3366"/>
                </a:solidFill>
                <a:latin typeface="Arial"/>
              </a:rPr>
              <a:t>Klasifikace z hlediska signalizace stavu zásob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71720" y="1999800"/>
            <a:ext cx="76435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5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dy objedna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5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lik objedna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5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k velká má být zásob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5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 má být na skladě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5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k zajistit správnost  údajů o zásobá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3BB2-84EA-4D3E-8CE3-3BA7CAFB575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Řízení zásob musí odpovědět na tyto otázky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80010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Řízení zásob chápeme jako všechny činnosti, které vedou k optimálnímu sladění zásob s tím, co je za současných podmínek v podniku logisticky a finančně žádou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držovat zásobu nikdy nesmí být samo o sobě cílem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Konečným cílem je optimálně posloužit zákazníkům a přitom se snažit minimalizovat prostředky investované do zásob a náklady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na zásob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E9F-C852-4247-89F0-EFA49D5A181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obr"/>
          <p:cNvPicPr/>
          <p:nvPr/>
        </p:nvPicPr>
        <p:blipFill>
          <a:blip r:embed="rId1"/>
          <a:stretch/>
        </p:blipFill>
        <p:spPr>
          <a:xfrm>
            <a:off x="857160" y="1857240"/>
            <a:ext cx="8143920" cy="38401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714240" y="5500800"/>
            <a:ext cx="8001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oužité symbol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 – zásoba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 – objednací úroveň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Q – dávk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cs-CZ" sz="2400" spc="-1" strike="noStrike" baseline="-25000">
                <a:solidFill>
                  <a:srgbClr val="003366"/>
                </a:solidFill>
                <a:latin typeface="Arial"/>
              </a:rPr>
              <a:t>max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max. zásoba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 – pojistná zásoba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 – dodací lhů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E6B-A809-4BB5-AC99-262996AF43E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chéma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071360" y="2071440"/>
            <a:ext cx="7615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luktuace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přesnost dat o zásob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pacity sklad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nožstevní sle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v finan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vanlivost zásob, ap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EA8-3DD7-43A9-9881-283D12E9B5B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Faktory ovlivňující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sobování jako jedna z podnikových  funkcí patří mezi nejdůležitější podnikové aktivit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ladní funkcí zásobování j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fektivní zabezpečení předpokládaného průběhu základních, pomocných a obslužných výrobních i nevýrobních procesů surovinami, materiálem a výrobky, a to v potřebném množství, sortimentu, kvalitě, času a místě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Zásobovací čin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3078-C639-4CDD-80EE-591E83A6DAC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ři hledání a rozhodování o optimálním vztahu mezi jednotlivými druhy nákladů, které jsou vynakládány v souvislosti se zásobami, je třeba brát v úvahu jistá hledisk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ystém řízení zásob totiž souvisí nejen s konkrétními podmínkami v podniku,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le i se systematickou evidencí zásob, její aktualizací dle reálných podmínek, s ekonomickými podmínkami země a platnou legislativ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Nelze opomenout ani lidský faktor, jeho zkušenosti, kvalifikaci a způsob myšle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97F1-1943-49AD-A621-1B809FAF479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Organization Chart 2"/>
          <p:cNvGrpSpPr/>
          <p:nvPr/>
        </p:nvGrpSpPr>
        <p:grpSpPr>
          <a:xfrm>
            <a:off x="785880" y="2958480"/>
            <a:ext cx="8357400" cy="2478240"/>
            <a:chOff x="785880" y="2958480"/>
            <a:chExt cx="8357400" cy="2478240"/>
          </a:xfrm>
        </p:grpSpPr>
        <p:cxnSp>
          <p:nvCxnSpPr>
            <p:cNvPr id="268" name="_s4100"/>
            <p:cNvCxnSpPr>
              <a:stCxn id="269" idx="0"/>
              <a:endCxn id="270" idx="2"/>
            </p:cNvCxnSpPr>
            <p:nvPr/>
          </p:nvCxnSpPr>
          <p:spPr>
            <a:xfrm flipH="1" flipV="1" rot="5400000">
              <a:off x="4841640" y="4329000"/>
              <a:ext cx="248400" cy="324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71" name="_s4101"/>
            <p:cNvCxnSpPr>
              <a:stCxn id="272" idx="0"/>
              <a:endCxn id="270" idx="2"/>
            </p:cNvCxnSpPr>
            <p:nvPr/>
          </p:nvCxnSpPr>
          <p:spPr>
            <a:xfrm flipV="1" rot="16200000">
              <a:off x="6304320" y="2868840"/>
              <a:ext cx="248400" cy="292320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73" name="_s4102"/>
            <p:cNvCxnSpPr>
              <a:stCxn id="274" idx="0"/>
              <a:endCxn id="270" idx="2"/>
            </p:cNvCxnSpPr>
            <p:nvPr/>
          </p:nvCxnSpPr>
          <p:spPr>
            <a:xfrm flipH="1" flipV="1" rot="5400000">
              <a:off x="3378960" y="2866680"/>
              <a:ext cx="248400" cy="292824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75" name="_s4103"/>
            <p:cNvCxnSpPr>
              <a:stCxn id="276" idx="0"/>
              <a:endCxn id="277" idx="2"/>
            </p:cNvCxnSpPr>
            <p:nvPr/>
          </p:nvCxnSpPr>
          <p:spPr>
            <a:xfrm flipV="1" rot="16200000">
              <a:off x="6301440" y="2125440"/>
              <a:ext cx="248400" cy="292248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78" name="_s4104"/>
            <p:cNvCxnSpPr>
              <a:stCxn id="270" idx="0"/>
              <a:endCxn id="277" idx="2"/>
            </p:cNvCxnSpPr>
            <p:nvPr/>
          </p:nvCxnSpPr>
          <p:spPr>
            <a:xfrm flipV="1" rot="16200000">
              <a:off x="4841640" y="3585240"/>
              <a:ext cx="248400" cy="324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79" name="_s4105"/>
            <p:cNvCxnSpPr>
              <a:stCxn id="280" idx="0"/>
              <a:endCxn id="277" idx="2"/>
            </p:cNvCxnSpPr>
            <p:nvPr/>
          </p:nvCxnSpPr>
          <p:spPr>
            <a:xfrm flipH="1" flipV="1" rot="5400000">
              <a:off x="3377520" y="2124000"/>
              <a:ext cx="248400" cy="2925720"/>
            </a:xfrm>
            <a:prstGeom prst="bentConnector3">
              <a:avLst>
                <a:gd name="adj1" fmla="val 49927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77" name="_s4106"/>
            <p:cNvSpPr/>
            <p:nvPr/>
          </p:nvSpPr>
          <p:spPr>
            <a:xfrm>
              <a:off x="3185640" y="2958480"/>
              <a:ext cx="3557520" cy="504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66"/>
                  </a:solidFill>
                  <a:latin typeface="Times New Roman"/>
                </a:rPr>
                <a:t>Náklady spojené se zásobami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_s4107"/>
            <p:cNvSpPr/>
            <p:nvPr/>
          </p:nvSpPr>
          <p:spPr>
            <a:xfrm>
              <a:off x="785880" y="3711240"/>
              <a:ext cx="2503800" cy="495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Objednací náklady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_s4108"/>
            <p:cNvSpPr/>
            <p:nvPr/>
          </p:nvSpPr>
          <p:spPr>
            <a:xfrm>
              <a:off x="3713400" y="3711240"/>
              <a:ext cx="2504520" cy="495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Náklady na držení zásob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_s4109"/>
            <p:cNvSpPr/>
            <p:nvPr/>
          </p:nvSpPr>
          <p:spPr>
            <a:xfrm>
              <a:off x="6636240" y="3711240"/>
              <a:ext cx="2503800" cy="495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Náklady z nedostatku 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zásoby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_s4110"/>
            <p:cNvSpPr/>
            <p:nvPr/>
          </p:nvSpPr>
          <p:spPr>
            <a:xfrm>
              <a:off x="785880" y="4455000"/>
              <a:ext cx="2507040" cy="981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Náklady ušlých příležitostí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„</a:t>
              </a: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ÚROK“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_s4111"/>
            <p:cNvSpPr/>
            <p:nvPr/>
          </p:nvSpPr>
          <p:spPr>
            <a:xfrm>
              <a:off x="6636240" y="4455000"/>
              <a:ext cx="2507040" cy="981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Náklady spojené s rizikem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„</a:t>
              </a: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RIZIKO“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_s4112"/>
            <p:cNvSpPr/>
            <p:nvPr/>
          </p:nvSpPr>
          <p:spPr>
            <a:xfrm>
              <a:off x="3710880" y="4455000"/>
              <a:ext cx="2507040" cy="981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Náklady na skladování  </a:t>
              </a:r>
              <a:br>
                <a:rPr sz="1800"/>
              </a:b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„</a:t>
              </a: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PROSTOR“</a:t>
              </a: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Rectangle 33"/>
          <p:cNvSpPr/>
          <p:nvPr/>
        </p:nvSpPr>
        <p:spPr>
          <a:xfrm>
            <a:off x="785880" y="1928880"/>
            <a:ext cx="8183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lišujeme 3 druhy nákladů spojených se zásobami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950C-31FC-48F0-9454-572FE4276D0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000080" y="2060640"/>
            <a:ext cx="7748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8096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Objednací náklady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náklady na pořízení jedné dávky k doplnění zásoby položk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0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0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dná se o dopravní náklady, náklady na přejímku, kontrolu, uskladnění, náklady na úhradu a likvidaci faktury ap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C807-DE78-4545-8802-DCF0AF7B4EE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77864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 algn="just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áklady na držení zásoby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které se dále člení n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59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376200" algn="just"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áklady ušlých příležitost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úrok) – jedná se o náklady ze ztráty příležitostí,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j. o jaký zisk podnik přichází z důvodu vázanosti finančních prostředků v zásobách. Jsou přímo úměrné hodnotě průměrné zásoby v nákladových cenách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224-24C3-44E8-BA4F-79E4061506B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14200" y="1785960"/>
            <a:ext cx="87868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47880" indent="-373320" algn="just">
              <a:lnSpc>
                <a:spcPct val="8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áklady na skladová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prostor) – jsou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všechny náklady související s provozem skladovacích prostor a s evidencí zásob /odpisy budov, mzdy, energie, údržba aj./. Tyto náklady mají velkou fixní složku –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 při nevyužití kapacity skladu je nutno zabezpečovat mnoho činností. Určují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 jako určité procento z hodnoty průměrné zásoby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4788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47880" indent="-373320" algn="just">
              <a:lnSpc>
                <a:spcPct val="8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áklady spojené s rizik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riziko) – týkají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 možné budoucí neprodejnosti, poškození, zastarání či nepoužitelnosti zásob. Odhadují se jako určité procento z průměrné zásob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9AE-9270-4F11-A15A-C890949A61B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13880" y="1785960"/>
            <a:ext cx="82868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0440" indent="-370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áklady z nedostatku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deficitu) zásoby - nestačí-li okamžitá skladová zásoba k včasnému uspokojení všech požadavků odběratelů, nastane defic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7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ůst nákladů se pak projeví např. zrušením nesplněné objednávky, jako ztráta objemu prodejů, většími náklady na vyřízení dodatečné objednávky ap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7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to náklady se špatně odhadují, mohou být zčásti zaviněny i špatnou předpovědí poptávky aj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1C9-3B07-4E2C-8114-CD48F1C5398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áklady spojené se zásoba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14040" y="2071800"/>
            <a:ext cx="8086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 nejpřesněji a včas zjišťovat budoucí předpokládanou spotřebu materiálu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ematicky zjišťovat  potenciální disponibilní zdroje  pro uspokojování těchto potřeb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plně a včas projednávat a užívat smlouvy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 ekonomicky efektivních dodávkách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ematicky sledovat a regulovat stav zásob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zabezpečovat jejich co nejefektivnější využití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ě realizovat operativní zásahy v případě ohrožení uspokojování vnitropodnikových potř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3366"/>
                </a:solidFill>
                <a:latin typeface="Arial"/>
              </a:rPr>
              <a:t>Splnění funkce zásobování předpokládá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F92-CC6C-4067-B23E-B1F32336F2E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39320" y="3325680"/>
            <a:ext cx="7485480" cy="34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soba je funkčním zbožím nacházejícím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 v materiálovém toku.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soby vyrovnávají rozdíly v rychlostech sousedních článků řetězce, tlumí nejistoty.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ladní funkcí zásoby je rozpojení přísunu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odsunu zboží.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viz následující obrázek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Funkce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A0CF-15D1-4A2C-B7B5-20E258EDFD9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08-09"/>
          <p:cNvPicPr/>
          <p:nvPr/>
        </p:nvPicPr>
        <p:blipFill>
          <a:blip r:embed="rId1"/>
          <a:stretch/>
        </p:blipFill>
        <p:spPr>
          <a:xfrm>
            <a:off x="857160" y="2143080"/>
            <a:ext cx="8070840" cy="421488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Funkce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A5F-59FA-442C-B4F6-1E73CDC5445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500120" y="2000160"/>
            <a:ext cx="700092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Zásoby rozpojují přísun a odsun zboží (nabídku a poptávku) na určitém místě materiálového toku a zachycují tak případné vzájemné rozdíly v rychlosti proudění těchto dvou toků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roč vytvářet zásob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D9D-7227-4CEA-A49C-EAEDFF577D8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57160" y="1785600"/>
            <a:ext cx="78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zitivní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slouží k řešení nesouladu (místního, časového, kapacitního 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ortimentního) mezi výrobou a spotřebou, ke krytí výkyvů v poptávce a poru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gativní –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zásoby v sobě vážou kapitál, jsou spojeny s určitou výší rizika a nákladů, mohou ohrožovat likviditu podniku. Zabírají skladovací plochy a mohou se stát zastaralým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Význam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3E98-3395-4AA4-9917-7B5CCC10CDD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71360" y="2214360"/>
            <a:ext cx="7429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ve sféře výroby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(zásoby předvýrobní, výrobní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ozpracovaná </a:t>
            </a:r>
            <a:br>
              <a:rPr sz="2800"/>
            </a:br>
            <a:r>
              <a:rPr b="0" i="1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nedokončená výrob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) a hotových výrobk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ve sféře oběh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ásoby ve sféře spotře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Vznik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354-8EEA-4F3B-899F-E8864D7B565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85520" y="1928520"/>
            <a:ext cx="807228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v logistickém kanálu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(zásoby rozpracovanosti) - jde o nedokončené výrobky dosud ve zpracování, obsahuje vyrovnávací zásoby mezi pracovišti nebo v mezioperačních skladech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rozpojovací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34960" indent="-3538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bratové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34960" indent="-3538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ojistné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technologické zásoby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zásoby, které před expedicí či dalším zpracováním potřebují určitou dobu uskladnění, aby získaly požadované vlastnos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ělení zásob dle jejich funk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DF1-7E62-46BF-BE3C-D7FB949CE8F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9:00:10Z</dcterms:created>
  <dc:creator>Danuše Bauerová</dc:creator>
  <dc:description/>
  <dc:language>en-US</dc:language>
  <cp:lastModifiedBy>sed02</cp:lastModifiedBy>
  <cp:lastPrinted>1998-09-10T10:11:28Z</cp:lastPrinted>
  <dcterms:modified xsi:type="dcterms:W3CDTF">2010-10-07T17:46:37Z</dcterms:modified>
  <cp:revision>268</cp:revision>
  <dc:subject/>
  <dc:title>bez titulu</dc:title>
</cp:coreProperties>
</file>