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39760" y="693360"/>
            <a:ext cx="4578480" cy="34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88584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633774-ABFE-484C-B02B-BDF863917529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AFD77F-6213-4E7F-91D8-549CA1EB5471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2166840" y="5016600"/>
            <a:ext cx="88416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 flipH="1">
            <a:off x="3889440" y="5016600"/>
            <a:ext cx="56520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 flipH="1">
            <a:off x="2516040" y="5405400"/>
            <a:ext cx="53496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965400" y="5329080"/>
            <a:ext cx="68436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21E4AF-EB68-4BAC-9B94-6B66A064F0A6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14F93A-085D-4827-BF11-3BDA43D63814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2FAC46-FF10-4108-9D21-1E831523F7DC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053F0F-19FC-4B16-99DF-57418AA946F9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95FF19-1192-4AC5-80AD-B770C3651AA9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F6EB1A-5077-4258-9727-6389060766E2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298953-D00B-4C9F-A443-15D01283D259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048D96-58D4-4C87-8D24-29B3EC2488D3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3041C9-F8E6-4405-BA74-B7E6E1990826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A475CB-1CE0-440E-827B-A5E888985876}" type="slidenum">
              <a:rPr b="0" i="1" lang="cs-CZ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2166840" y="5016600"/>
            <a:ext cx="88416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 flipH="1">
            <a:off x="3889440" y="5016600"/>
            <a:ext cx="565200" cy="1602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 flipH="1">
            <a:off x="2516040" y="5405400"/>
            <a:ext cx="53496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965400" y="5329080"/>
            <a:ext cx="68436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38B179-5D7F-46E1-AD68-0742957D0253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916531-1E0A-45B2-91F1-1BBC364ACCEC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2B6F15-32F2-4848-8731-313115CBD9A8}" type="slidenum">
              <a:rPr b="0" i="1" lang="fi-FI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1560" y="69372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28D-45D9-4FC9-B994-F8292DD8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389-5B83-4BC3-8967-88E563EE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C6E-358B-4E50-9962-5B1E0BEF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F6B-E086-4391-9D97-7D4DF1AB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5577-0750-42D2-B927-83C29CFE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E44D-2F4C-4391-833B-5A58155C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36E0-0621-44B2-9D00-90109DFB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59EC-C2E0-450D-BAD1-81C40254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C864-1CBF-4E03-A04A-E378C48B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06E7-A501-4D7C-8263-46406F12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70F-23D9-46C8-8C70-F8A3038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675-B0BB-45E6-A4FC-5530364D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5021-4967-4A50-8743-11C336AC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8F80-F856-43A8-A7EE-76C1179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E58A-4F1C-4B14-8D03-4B51C134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E337-B635-4281-A61A-F593C16A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6AFA-BEE5-423E-8378-FDEDAD65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57FF-B5A6-4E53-AC4D-FD1BB96A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9623-4B8D-48E9-BB97-210A9EEC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1B7B-1B45-4208-BF3B-66A3BB1B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B042-B770-49E2-AB95-55025FF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2498-B719-47E7-9424-0234053D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7F7-7A2D-4A72-9AC9-176BA313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E59B-3BD0-40DB-9879-6239E8E3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F2D7-2EAE-4BF4-93F6-B03AC30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CAE0-56D6-4203-9C25-EEFE3F40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D2D5-6A0F-4D4E-80F6-CD8C66EF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0508-E181-4551-B1C0-3CD72F7F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8A3F-34B8-457E-9FF9-4031D473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112F-D8DC-4DDF-A2F3-857950D1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10D-60C0-4BB3-8E45-9613BC7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4D4-4161-4AD5-9854-A5220081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2C2-D3C4-4B87-B462-448239D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BA1-595E-438F-8417-97413AF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04A-9174-47D3-B7D7-66B8C10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C2F-B30A-4F88-8FD0-E9756F87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3689-D51E-4DC3-BC1B-B6CD06EFBD6E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09C9-5A42-4301-AC68-5D44FD321FB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1BF2-7F4D-41B6-B360-E6ECE756E1C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E7A3-6564-4C2C-B8F8-703F11CC338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Logistika 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971640" y="5734080"/>
            <a:ext cx="7529400" cy="34542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235880" y="3286080"/>
            <a:ext cx="72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nejistot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Obdélník 6"/>
          <p:cNvSpPr/>
          <p:nvPr/>
        </p:nvSpPr>
        <p:spPr>
          <a:xfrm>
            <a:off x="2357280" y="5286240"/>
            <a:ext cx="4572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dnáška č.3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71320" y="1928520"/>
            <a:ext cx="7600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timální velikost pojistné zásoby, resp. optimální velikost dodavatelských služeb je maximem rozdílu mezi úsporou nákladů z nedostatku a nákladů na držení záso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ptimální velikost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B449-AF18-44A4-A66F-DD4ABF98743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78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lastní výpočet pojistné zásoby se opírá o teorii pravděpodobnosti. K určení velikosti pojistné zásoby se využívají vlastnosti normálního rozděle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z obráz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27A7-84E8-4094-8122-61FD021FE47E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00080" y="857160"/>
            <a:ext cx="7709040" cy="8064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ptimální velikost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85840" y="1928880"/>
            <a:ext cx="8534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pokládáme, že odchylky od průměrné poptávky (spotřeby, dodací lhůty) mají normální rozdělení pravděpodobnosti se střední hodnotou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=0 a směrodatnou odchylkou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 distribuční funkce normálního rozdělení lze pro zvolený stupeň zajištěnosti dodávky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, resp. pro únosnou pravděpodobnost deficitu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p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=1-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 odvodit tzv. pojistný faktor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, který představuje násobek směrodatné odchylky od průměrné poptávky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FE55-6AC9-4F21-9985-EB5520035F9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ptimální velikost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00080" y="1989000"/>
            <a:ext cx="7748640" cy="31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stanovení velikosti pojistné zásoby také rozlišujeme mezi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kamžitou úrovní dodavatelských služeb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ůměrnou úrovní dodavatelských služeb v    období mezi dvěma dodávkami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860-3996-451C-897A-44244530191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Stanovení velikosti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57160" y="1773360"/>
            <a:ext cx="8143920" cy="60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U okamžité úrovně dodavatelských služeb předpokládáme, že odchylky od průměrné spotřeby budou kryty pouze pojistnou zásobou.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U průměrné úrovně uvažujeme, že: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po příchodu nové objednávky je k dispozici běžná i pojistná zásoba a odchylky od průměrné spotřeby kryjeme ze 100 %,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zranitelní jsme v průběhu doby od objednání nové dodávky k jejímu dodání, kdy již může dojít k čerpání pojistné zásoby,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odchylky od průměrné spotřeby kryjeme v tomto úseku s pravděpodobností (</a:t>
            </a:r>
            <a:r>
              <a:rPr b="0" i="1" lang="cs-CZ" sz="25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500" spc="-1" strike="noStrike">
                <a:solidFill>
                  <a:srgbClr val="003366"/>
                </a:solidFill>
                <a:latin typeface="Arial"/>
              </a:rPr>
              <a:t>), která odpovídá Zp. 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8562-B155-42F5-AB14-579324FC81B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Úroveň dodavatelských služe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57160" y="1989000"/>
            <a:ext cx="8072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ůměrná úroveň dodavatelských služeb je tedy rovna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100.délka období od příchodu dodávky do okamžiku znovuobjednání +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L)/2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uto úvahu lze využít při rozhodování, zda držet pojistnou zásobu či nikoli. U takových položek, kde dodací lhůta L je krátká a cyklus mezi dvěma objednávkami dlouhý, lze snížit pojistnou zásobu na minimum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F78C-A3CB-4917-B704-702E10632C8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Úroveň dodavatelských služe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A7B6-36C1-41F4-A217-7056DA05C414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286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ši pojistných zásob lze stanovit pomocí počítačové simulace nebo pomocí statistických met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výpočtu výše pojistné zásoby je nutno uvažovat vliv 2 faktorů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) variabilita poptáv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) variabilita cyklu doplnění zás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romáždění statisticky významného vzorku dat o nedávných objemech prodeje a o cyklech doplňování záso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3286080" y="1928880"/>
                <a:ext cx="19447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7"/>
          <p:cNvSpPr/>
          <p:nvPr/>
        </p:nvSpPr>
        <p:spPr>
          <a:xfrm>
            <a:off x="971640" y="3000240"/>
            <a:ext cx="612144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 – pojistný fakto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 - směrodatná odchylk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2571840" y="4429080"/>
                <a:ext cx="33130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bar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3CE-FCAA-41B6-A59C-8E48E59222B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2786040" y="3929040"/>
                <a:ext cx="266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Rectangle 5"/>
          <p:cNvSpPr/>
          <p:nvPr/>
        </p:nvSpPr>
        <p:spPr>
          <a:xfrm>
            <a:off x="1071720" y="1928880"/>
            <a:ext cx="76770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-li směrodatná odchylka vypočtena z údajů jednotlivých období, jejichž délka se nekryje s dodacím cyklem, používá se často v praxi přesnějšího vzorce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071720" y="5143680"/>
            <a:ext cx="612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 – dodací lhůt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E087-BCD7-4BD8-A6B2-4F7EBF7D4C9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1000080" y="1989000"/>
            <a:ext cx="77486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 praktické výpočty pojistné zásoby slouží následující tabulka pojistných faktorů pro vybrané hodnoty stupně zajištěnosti dodávek. Údaje v tabulce představují zaokrouhlené hodnoty distribuční funkce normovaného normálního rozdělení pravděpodobnosti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95BA-F1D8-4C4D-98C2-9F2252528F1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ástupný symbol pro číslo snímk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3B1-F7A6-4CAE-B329-6A32BBBB38E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1042920" y="907920"/>
            <a:ext cx="7925040" cy="806760"/>
          </a:xfrm>
          <a:prstGeom prst="roundRect">
            <a:avLst>
              <a:gd name="adj" fmla="val 21667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Obsah přednášk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03760" y="1883880"/>
            <a:ext cx="667764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Řízení zásob v podmínkách jisto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Řízení zásob v podmínkách (ne)jisto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znam pojistné zásob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timální velikost pojistné zásob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jistný fakto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ýpočet míry plnění dodávek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F458-D3ED-44A4-B3D8-4B1810E8EF2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ednotky pojistné zásoby potřebné pro uspokojení 68% všech pravděpodobnost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růměrný cyklus doplnění záso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růměrný denní prode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měrodatná odchylka cyklu doplnění záso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měrodatná odchylka denního prode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286000" y="1857240"/>
                <a:ext cx="5251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σ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σ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1214280" y="2928960"/>
                <a:ext cx="6256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14280" y="3643200"/>
                <a:ext cx="541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143000" y="5214960"/>
                <a:ext cx="749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6"/>
              <p:cNvSpPr txBox="1"/>
              <p:nvPr/>
            </p:nvSpPr>
            <p:spPr>
              <a:xfrm>
                <a:off x="1214280" y="5786280"/>
                <a:ext cx="7495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285920" y="4500720"/>
                <a:ext cx="5000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074-D593-4CDC-9DC3-AC02D7D7219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57200" y="1928880"/>
          <a:ext cx="6929640" cy="4452840"/>
        </p:xfrm>
        <a:graphic>
          <a:graphicData uri="http://schemas.openxmlformats.org/drawingml/2006/table">
            <a:tbl>
              <a:tblPr/>
              <a:tblGrid>
                <a:gridCol w="973080"/>
                <a:gridCol w="2492640"/>
                <a:gridCol w="971280"/>
                <a:gridCol w="2492640"/>
              </a:tblGrid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ej - počet krabic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ej - počet krabic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BD04-4770-49CC-AC0A-BBF4E43EA5F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00080" y="1857240"/>
          <a:ext cx="7858080" cy="4714920"/>
        </p:xfrm>
        <a:graphic>
          <a:graphicData uri="http://schemas.openxmlformats.org/drawingml/2006/table">
            <a:tbl>
              <a:tblPr/>
              <a:tblGrid>
                <a:gridCol w="1071720"/>
                <a:gridCol w="1036440"/>
                <a:gridCol w="2249640"/>
                <a:gridCol w="2286000"/>
                <a:gridCol w="1214280"/>
              </a:tblGrid>
              <a:tr h="738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ní prodej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tnost (f)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chylka od střední hodnoty (d)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chylka od střední hodnoty (d</a:t>
                      </a:r>
                      <a:r>
                        <a:rPr b="1" lang="pl-PL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d</a:t>
                      </a:r>
                      <a:r>
                        <a:rPr b="1" lang="cs-CZ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=1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25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d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00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E1A2-1CEB-479E-BDA5-EB58A2F0EB0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57160" y="1857240"/>
          <a:ext cx="8143920" cy="4714920"/>
        </p:xfrm>
        <a:graphic>
          <a:graphicData uri="http://schemas.openxmlformats.org/drawingml/2006/table">
            <a:tbl>
              <a:tblPr/>
              <a:tblGrid>
                <a:gridCol w="2200320"/>
                <a:gridCol w="1128600"/>
                <a:gridCol w="1954440"/>
                <a:gridCol w="1979640"/>
                <a:gridCol w="880920"/>
              </a:tblGrid>
              <a:tr h="8715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doba doplnění zásob ve dnech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tnost (f)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chylka od střední hodnoty (d)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chylka od střední hodnoty (d</a:t>
                      </a:r>
                      <a:r>
                        <a:rPr b="1" lang="pl-P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d</a:t>
                      </a:r>
                      <a:r>
                        <a:rPr b="1" lang="cs-CZ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=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16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d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0</a:t>
                      </a:r>
                      <a:endParaRPr b="1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16CF-1349-4318-AB38-03840C74301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íkla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2428920" y="1857240"/>
                <a:ext cx="582444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28880" y="3286080"/>
                <a:ext cx="64198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2214720" y="4714920"/>
                <a:ext cx="566712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</m:ba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σ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ba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σ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0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CC2B-77A7-449D-BA64-CA03AA0F7A2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76F5-2EEF-4B00-B647-2FA750EF45F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85880" y="2000160"/>
          <a:ext cx="8215200" cy="4583160"/>
        </p:xfrm>
        <a:graphic>
          <a:graphicData uri="http://schemas.openxmlformats.org/drawingml/2006/table">
            <a:tbl>
              <a:tblPr/>
              <a:tblGrid>
                <a:gridCol w="1908000"/>
                <a:gridCol w="1806840"/>
                <a:gridCol w="1857240"/>
                <a:gridCol w="1081080"/>
                <a:gridCol w="1562040"/>
              </a:tblGrid>
              <a:tr h="1468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roveň zákaznického servisu (%)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měrná běžná zásoba (1/2 EOQ)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řebný počet směrodatných odchylek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á zásoba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průměrná zásoba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1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7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5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2B7E-72FC-4092-9686-C9943D9F1C6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858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íra plnění dodávek vyjadřuje závažnost vyčerpání záso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íra plnění dodáv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mbinovaná pojistná zásoba požadovaná pro pokrytí variability celkové doby doplnění zásob i variability poptáv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objednací množ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ervisní funkce (faktor významnosti) založená na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třebném počtu směrodatných odchyle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míry plnění dodáv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1143000" y="2214720"/>
                <a:ext cx="445932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O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857160" y="3643200"/>
                <a:ext cx="8334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857160" y="4214880"/>
                <a:ext cx="623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1000080" y="5357880"/>
                <a:ext cx="1249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O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1000080" y="6000840"/>
                <a:ext cx="120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F184-9D77-4A0F-9146-95056A3EF07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501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jistný faktor K=pojistná zásoba, kterou se rozhodne manažer udržovat, děleno    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bjednací množství je 1000, pojistná zásoba stanovená manažerem je 280 jednotek. K=280/175=1,60. I(K)=0,023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z tabu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počet pojistných záso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6858000" y="3357720"/>
                <a:ext cx="41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24A2-48C8-4B98-91D9-68F6E261F3A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71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F27A-179D-49B0-B89B-5A494050F05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99720" y="1714320"/>
            <a:ext cx="7929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rostá minimalizace celkových náklad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Kompromis mez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áklady na udržování záso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áklady na objednán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Model EOQ 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conomic Order Quantity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00080" y="3357720"/>
            <a:ext cx="77868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57160" y="1844640"/>
            <a:ext cx="7891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ztah mezi velikostí pojistné zásoby a stupněm zajištěnosti dodávek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857160" y="2714760"/>
          <a:ext cx="8035920" cy="3929040"/>
        </p:xfrm>
        <a:graphic>
          <a:graphicData uri="http://schemas.openxmlformats.org/drawingml/2006/table">
            <a:tbl>
              <a:tblPr/>
              <a:tblGrid>
                <a:gridCol w="2525760"/>
                <a:gridCol w="2898720"/>
                <a:gridCol w="2611440"/>
              </a:tblGrid>
              <a:tr h="79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elikost pojistné zásoby (Zp=k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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avděpodobnost vzniku deficitu </a:t>
                      </a:r>
                      <a:r>
                        <a:rPr b="1" i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pd)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upeň zajištěnosti (</a:t>
                      </a:r>
                      <a:r>
                        <a:rPr b="1" i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z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00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85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,87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4,13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4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65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00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28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7,72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33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9,00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00.</a:t>
                      </a: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13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9,87%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49A5-12AB-4F26-BDF9-D4605457F81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Pojistný fak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EC2D-0AC8-4854-8C77-E5F32E0B364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28400" y="1673280"/>
            <a:ext cx="8715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utná znalost poptávky po výrobcích nebo službác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snost předpovědí může ovlivnit řada faktorů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 ekonomické podmín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) konku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c) vládní na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) změny ve spotřebitelském chová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ění se také doby cyklu objednávk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 doba přeprav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) příprava objednáv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c) doba doplnění zásob a surov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) reakce dodavatele na změny v poptáv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(ne)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D843-A2F3-4636-834E-DEA8EBF42F7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28400" y="1673280"/>
            <a:ext cx="8715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anagement má 2 možnost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) udržovat zásoby ve formě pojistných záso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) riskovat potenciální ztrátu prodeje z důvodu chybění záso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áklady na udržování zásob versus náklady z chybění záso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anažeři se zaměřují spíše na to, kdy je třeba objednávat než na to, kolik je třeba objednáv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nožství (kolik) ovlivňuje počet objednávek a také počet situací, kdy dojde potenciálně k chybění záso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ne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9EC4-813E-4854-ADD3-ADDF8A0BBCA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858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ne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785880" y="1928880"/>
            <a:ext cx="832644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ADBA-53FD-46D7-BDFB-A2A31DDD9BCF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82152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22400" y="958680"/>
            <a:ext cx="7606440" cy="704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Řízení zásob v podmínkách nejist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8072280" cy="48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192852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jistná zásoba kryje odchylky od průměrné velikosti poptávky (spotřeby) a průměrného dodacího cykl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ytváří se jednorázově, průběžně se ověřuje opodstatněnost její velikos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jí velikost je odvozena z ekonomické úvahy o optimální úrovni dodavatelských služeb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ýznam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E914-E7DF-4E5D-99C9-C6217B5505EE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14240" y="1928520"/>
            <a:ext cx="74296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 zabezpečení rostoucí úrovně dodavatelských služeb (stupeň zajištěnosti dodávky –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sz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 je nutno zvýšit pojistnou zásobu, s jejímž držením jsou však spojeny náklad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opak se snižuje riziko vyčerpání zásoby, snižují se tedy náklady deficit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08680" cy="8067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elikost pojistné záso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Zástupný symbol pro číslo snímku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1807-5347-4BAC-9FD4-5F0320BC17E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9:00:10Z</dcterms:created>
  <dc:creator>Danuše Bauerová</dc:creator>
  <dc:description/>
  <dc:language>en-US</dc:language>
  <cp:lastModifiedBy>sed02</cp:lastModifiedBy>
  <cp:lastPrinted>1998-09-10T10:11:28Z</cp:lastPrinted>
  <dcterms:modified xsi:type="dcterms:W3CDTF">2010-11-23T07:42:56Z</dcterms:modified>
  <cp:revision>286</cp:revision>
  <dc:subject/>
  <dc:title>bez titulu</dc:title>
</cp:coreProperties>
</file>