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39760" y="693360"/>
            <a:ext cx="45784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584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00D703-C3A3-4618-AF55-1BA6A36B041B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05E44D-DFF2-4971-B056-C69F232F93B0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FAFC17-8095-460D-8F89-68D2BF8B89C8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D096A5-2323-4F63-B008-66F34AEB7B13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8205F9-4330-4856-A051-65A2BCAA901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D24E12-B177-47E9-BA76-72578E931E7B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39D76B-D330-4BB2-9FE7-8FEACF7C94AE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12C8A8-DC68-4337-8A31-D3002DAFAFFB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C6DF2B-8E5D-4FE0-BB49-16B8F00A6A30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DC86F3-ADC6-4AED-AE5B-529F8AE79C9A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55DB45-DBEB-4046-8D9B-601FD02C89F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BC2FED-70AB-41AE-A895-9D33C75CFAA6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90B64B-29DA-4D69-9974-33CF3B7B92C6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824BAF-E56A-477B-BAD4-2E52912045B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E4D413-893D-42D9-B6CF-C311D907B272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77A-F291-4131-9D6D-C7E3CD4A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D73-3C8B-4945-9D33-555FF926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E4C-48B7-4AFD-9AF3-63156ABE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A69-DA56-4F64-8FA3-8B4F18FA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3CEC-D272-4B59-8D6F-03CBD4BE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D5A3-C30E-4D33-BD49-0FDAA7D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72BF-E631-4AAE-AD7D-A039804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C7A4-FE2E-48A1-86B1-6B562A7E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6074-5BD8-4ED4-9312-A9AE4696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9473-4714-4AF4-9B94-1E51124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407-D070-47E8-A989-E1CD51F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E3B-2C86-476D-A3F5-FB3FB106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028-AD4D-488E-8FFE-1978024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10C4-9AD9-4A0F-817A-C5E9566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C6C-3C50-4A27-917C-557599DC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1EA8-5E65-4042-B5AB-3083C036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5B9-3BE6-4A30-8857-08519D2D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00BC-6A89-4AB9-885D-791282BD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0A6D-A9F1-4852-95DE-2E2FBE2D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3294-8370-471B-AD03-2BF12132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EE6E-3E27-49B5-8B9A-319C4977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A22E-8263-4928-8C28-6E08F5B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01B-4EAB-467A-9135-669D5F65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DF9D-C407-4A39-A205-D40B63E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229A-9094-484E-8C1A-59C697CC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4B8C-23E8-4929-A5DA-5F77679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3A69-C0EC-43FC-9682-46B205F9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8FBC-7067-4585-BE42-39D5EAC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4C4B-98EC-42C0-80E0-71DC912D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4094-C5C8-473C-9CC6-8C304C8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94B-4B96-4984-8BBC-FCE3B2F3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E5C-C9D0-4E32-B2BD-916058F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662-1699-410B-8B46-A10A2AB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48F-B6AE-4090-BC8B-BDD0D82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9EE-ABD4-4620-8EF4-4CC2EC3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BFB-4E4E-45CF-A6EE-AD1968D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47B-DF32-45D8-AE05-F615F58DCE7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DBE4-4EBC-4E56-B706-5B0CABC4106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B85A-CCDF-4B33-92A0-D51D016FE56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61A-1789-49FC-B7A3-B890422C496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ka 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971640" y="5734080"/>
            <a:ext cx="7529400" cy="34542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235880" y="328608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bdélník 6"/>
          <p:cNvSpPr/>
          <p:nvPr/>
        </p:nvSpPr>
        <p:spPr>
          <a:xfrm>
            <a:off x="2357280" y="5286240"/>
            <a:ext cx="4572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náška č.3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71320" y="1928520"/>
            <a:ext cx="7600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timální velikost pojistné zásoby, resp. optimální velikost dodavatelských služeb je maximem rozdílu mezi úsporou nákladů z nedostatku a nákladů na držení záso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C45-F50E-4813-8A30-51C6C6B67FB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78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lastní výpočet pojistné zásoby se opírá o teorii pravděpodobnosti. K určení velikosti pojistné zásoby se využívají vlastnosti normálního rozděle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z obráz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1B50-A69A-4355-A17C-36A7F3F88E7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709040" cy="8064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85840" y="1928880"/>
            <a:ext cx="8534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pokládáme, že odchylky od průměrné poptávky (spotřeby, dodací lhůty) mají normální rozdělení pravděpodobnosti se střední hodnotou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=0 a směrodatnou odchylkou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 distribuční funkce normálního rozdělení lze pro zvolený stupeň zajištěnosti dodávky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, resp. pro únosnou pravděpodobnost deficitu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p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=1-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 odvodit tzv. pojistný faktor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, který představuje násobek směrodatné odchylky od průměrné poptávky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28C6-7333-4C5C-AA9A-0D0218D6EAA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00080" y="1989000"/>
            <a:ext cx="7748640" cy="31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stanovení velikosti pojistné zásoby také rozlišujeme mezi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kamžitou úrovní dodavatelských služeb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ůměrnou úrovní dodavatelských služeb v    období mezi dvěma dodávkami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FF5-A9E6-4261-812D-B2D42D35DF1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Stanovení velikosti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57160" y="1773360"/>
            <a:ext cx="814392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U okamžité úrovně dodavatelských služeb předpokládáme, že odchylky od průměrné spotřeby budou kryty pouze pojistnou zásobou.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U průměrné úrovně uvažujeme, že: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po příchodu nové objednávky je k dispozici běžná i pojistná zásoba a odchylky od průměrné spotřeby kryjeme ze 100 %,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zranitelní jsme v průběhu doby od objednání nové dodávky k jejímu dodání, kdy již může dojít k čerpání pojistné zásoby,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odchylky od průměrné spotřeby kryjeme v tomto úseku s pravděpodobností (</a:t>
            </a:r>
            <a:r>
              <a:rPr b="0" i="1" lang="cs-CZ" sz="25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), která odpovídá Zp. 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6AAD-991C-4E4F-A19E-E8CAB4413C0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Úroveň dodavatelských služe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57160" y="1989000"/>
            <a:ext cx="8072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ůměrná úroveň dodavatelských služeb je tedy rovna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100.délka období od příchodu dodávky do okamžiku znovuobjednání +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L)/2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uto úvahu lze využít při rozhodování, zda držet pojistnou zásobu či nikoli. U takových položek, kde dodací lhůta L je krátká a cyklus mezi dvěma objednávkami dlouhý, lze snížit pojistnou zásobu na minimum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4D0-50C4-4AC2-93A2-A518AFABF8C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Úroveň dodavatelských služe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24E-08C7-4BC3-BE8E-0A81FE6FFA06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2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ši pojistných zásob lze stanovit pomocí počítačové simulace nebo pomocí statistických met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výpočtu výše pojistné zásoby je nutno uvažovat vliv 2 faktorů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) variabilita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) variabilita cyklu doplnění zás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romáždění statisticky významného vzorku dat o nedávných objemech prodeje a o cyklech doplňování záso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3286080" y="1928880"/>
                <a:ext cx="19447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7"/>
          <p:cNvSpPr/>
          <p:nvPr/>
        </p:nvSpPr>
        <p:spPr>
          <a:xfrm>
            <a:off x="971640" y="3000240"/>
            <a:ext cx="612144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 – pojistný fakto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 - směrodatná odchylk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71840" y="4429080"/>
                <a:ext cx="33130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ba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2BF1-410C-44F8-AE5A-85B0080993C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2786040" y="3929040"/>
                <a:ext cx="266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Rectangle 5"/>
          <p:cNvSpPr/>
          <p:nvPr/>
        </p:nvSpPr>
        <p:spPr>
          <a:xfrm>
            <a:off x="1071720" y="1928880"/>
            <a:ext cx="7677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-li směrodatná odchylka vypočtena z údajů jednotlivých období, jejichž délka se nekryje s dodacím cyklem, používá se často v praxi přesnějšího vzorce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71720" y="5143680"/>
            <a:ext cx="612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 – dodací lhů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6F3-DD97-440E-AB4C-261CBE54E3D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1000080" y="1989000"/>
            <a:ext cx="77486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 praktické výpočty pojistné zásoby slouží následující tabulka pojistných faktorů pro vybrané hodnoty stupně zajištěnosti dodávek. Údaje v tabulce představují zaokrouhlené hodnoty distribuční funkce normovaného normálního rozdělení pravděpodobnosti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A21-979A-4CD8-88C3-8CDBA75BF31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DDD-AD5C-4A6F-8600-0DB80DA3109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bsah přednášk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03760" y="1883880"/>
            <a:ext cx="667764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Řízení zásob v podmínkách jisto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Řízení zásob v podmínkách (ne)jisto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znam pojistné zásob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ý fakto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počet míry plnění dodávek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141B-42E9-4919-A639-F03610444E4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ednotky pojistné zásoby potřebné pro uspokojení 68% všech pravděpodobnos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růměrný cyklus doplnění záso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růměrný denní prode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měrodatná odchylka cyklu doplnění záso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měrodatná odchylka denního prode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286000" y="1857240"/>
                <a:ext cx="5251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σ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σ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1214280" y="2928960"/>
                <a:ext cx="625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14280" y="3643200"/>
                <a:ext cx="541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143000" y="5214960"/>
                <a:ext cx="749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1214280" y="5786280"/>
                <a:ext cx="7495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285920" y="4500720"/>
                <a:ext cx="5000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CC6-C06D-4FEF-AEA0-B7468F11111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57200" y="1928880"/>
          <a:ext cx="6929640" cy="4452840"/>
        </p:xfrm>
        <a:graphic>
          <a:graphicData uri="http://schemas.openxmlformats.org/drawingml/2006/table">
            <a:tbl>
              <a:tblPr/>
              <a:tblGrid>
                <a:gridCol w="973080"/>
                <a:gridCol w="2492640"/>
                <a:gridCol w="971280"/>
                <a:gridCol w="2492640"/>
              </a:tblGrid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- počet krabic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- počet krabic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A36E-15C0-4E1C-8B60-93C906BC554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00080" y="1857240"/>
          <a:ext cx="7858080" cy="4714920"/>
        </p:xfrm>
        <a:graphic>
          <a:graphicData uri="http://schemas.openxmlformats.org/drawingml/2006/table">
            <a:tbl>
              <a:tblPr/>
              <a:tblGrid>
                <a:gridCol w="1071720"/>
                <a:gridCol w="1036440"/>
                <a:gridCol w="2249640"/>
                <a:gridCol w="2286000"/>
                <a:gridCol w="1214280"/>
              </a:tblGrid>
              <a:tr h="738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ní prodej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tnost (f)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)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</a:t>
                      </a:r>
                      <a:r>
                        <a:rPr b="1" lang="pl-PL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d</a:t>
                      </a:r>
                      <a:r>
                        <a:rPr b="1" lang="cs-CZ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=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2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d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0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D0F5-517E-44E3-A437-0BEC4073D5A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57160" y="1857240"/>
          <a:ext cx="8143920" cy="4714920"/>
        </p:xfrm>
        <a:graphic>
          <a:graphicData uri="http://schemas.openxmlformats.org/drawingml/2006/table">
            <a:tbl>
              <a:tblPr/>
              <a:tblGrid>
                <a:gridCol w="2200320"/>
                <a:gridCol w="1128600"/>
                <a:gridCol w="1954440"/>
                <a:gridCol w="1979640"/>
                <a:gridCol w="880920"/>
              </a:tblGrid>
              <a:tr h="8715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doba doplnění zásob ve dnech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tnost (f)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)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</a:t>
                      </a:r>
                      <a:r>
                        <a:rPr b="1" lang="pl-P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d</a:t>
                      </a:r>
                      <a:r>
                        <a:rPr b="1" lang="cs-CZ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=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16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d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D0B1-7F56-4AA5-9C47-31EFA087999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kla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2428920" y="1857240"/>
                <a:ext cx="582444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28880" y="3286080"/>
                <a:ext cx="64198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2214720" y="4714920"/>
                <a:ext cx="566712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ba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σ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ba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σ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0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BE30-FD01-4907-81DC-C34F774FB75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1EC-14E2-4B2E-8EFD-9D9CE867D35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85880" y="2000160"/>
          <a:ext cx="8215200" cy="4583160"/>
        </p:xfrm>
        <a:graphic>
          <a:graphicData uri="http://schemas.openxmlformats.org/drawingml/2006/table">
            <a:tbl>
              <a:tblPr/>
              <a:tblGrid>
                <a:gridCol w="1908000"/>
                <a:gridCol w="1806840"/>
                <a:gridCol w="1857240"/>
                <a:gridCol w="1081080"/>
                <a:gridCol w="1562040"/>
              </a:tblGrid>
              <a:tr h="1468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roveň zákaznického servisu (%)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měrná běžná zásoba (1/2 EOQ)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řebný počet směrodatných odchylek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á zásoba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průměrná zásoba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7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B7F-2296-4B78-AF14-C6E81005978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858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íra plnění dodávek vyjadřuje závažnost vyčerpání záso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íra plnění dodáv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mbinovaná pojistná zásoba požadovaná pro pokrytí variability celkové doby doplnění zásob i variability poptáv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bjednací množ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ervisní funkce (faktor významnosti) založená na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třebném počtu směrodatných odchyle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míry plnění dodáv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1143000" y="2214720"/>
                <a:ext cx="445932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O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857160" y="3643200"/>
                <a:ext cx="833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857160" y="4214880"/>
                <a:ext cx="623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1000080" y="5357880"/>
                <a:ext cx="1249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O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000080" y="6000840"/>
                <a:ext cx="12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2F2C-C2D4-43A8-B1DD-1A3E6C1357C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501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ý faktor K=pojistná zásoba, kterou se rozhodne manažer udržovat, děleno    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bjednací množství je 1000, pojistná zásoba stanovená manažerem je 280 jednotek. K=280/175=1,60. I(K)=0,023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z tabu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6858000" y="3357720"/>
                <a:ext cx="41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E898-D487-40E4-A0C6-9F219DB386E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0B68-3456-43C1-BDE9-B70B9117127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99720" y="1714320"/>
            <a:ext cx="7929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ostá minimalizace celkových náklad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mpromis mez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áklady na udržování záso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áklady na objednán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Model EOQ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conomic Order Quantity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00080" y="3357720"/>
            <a:ext cx="77868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57160" y="1844640"/>
            <a:ext cx="7891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ztah mezi velikostí pojistné zásoby a stupněm zajištěnosti dodávek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857160" y="2714760"/>
          <a:ext cx="8035920" cy="3929040"/>
        </p:xfrm>
        <a:graphic>
          <a:graphicData uri="http://schemas.openxmlformats.org/drawingml/2006/table">
            <a:tbl>
              <a:tblPr/>
              <a:tblGrid>
                <a:gridCol w="2525760"/>
                <a:gridCol w="2898720"/>
                <a:gridCol w="2611440"/>
              </a:tblGrid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elikost pojistné zásoby (Zp=k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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avděpodobnost vzniku deficitu </a:t>
                      </a:r>
                      <a:r>
                        <a:rPr b="1" i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pd)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upeň zajištěnosti (</a:t>
                      </a:r>
                      <a:r>
                        <a:rPr b="1" i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z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00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85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,87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4,13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4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65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00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28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7,72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33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9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00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13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9,87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B5E9-2112-41DE-83AF-255A3EDE5D2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Pojistný fak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871F-0017-4515-BA9B-D58E8521170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28400" y="1673280"/>
            <a:ext cx="8715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utná znalost poptávky po výrobcích nebo službá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nost předpovědí může ovlivnit řada faktorů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ekonomické podmín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konku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c) vládní na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) změny ve spotřebitelském chová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ění se také doby cyklu objednávk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doba přeprav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příprava objednáv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c) doba doplnění zásob a suro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) reakce dodavatele na změny v poptáv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(ne)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B34-E45B-4277-AB4A-FA72EA3927D6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28400" y="1673280"/>
            <a:ext cx="8715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anagement má 2 možnost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udržovat zásoby ve formě pojistných zás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riskovat potenciální ztrátu prodeje z důvodu chybění zás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áklady na udržování zásob versus náklady z chybění záso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anažeři se zaměřují spíše na to, kdy je třeba objednávat než na to, kolik je třeba objednáv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nožství (kolik) ovlivňuje počet objednávek a také počet situací, kdy dojde potenciálně k chybění záso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5C8-1B14-4968-ABAE-979F2E5919C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858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785880" y="1928880"/>
            <a:ext cx="83264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5554-9A0E-466E-AD64-C2F7C1F8786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82152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807228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192852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á zásoba kryje odchylky od průměrné velikosti poptávky (spotřeby) a průměrného dodacího cykl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ytváří se jednorázově, průběžně se ověřuje opodstatněnost její velikos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jí velikost je odvozena z ekonomické úvahy o optimální úrovni dodavatelských služeb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znam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C46B-58A1-4110-B3FE-ACA7E413BA9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14240" y="1928520"/>
            <a:ext cx="74296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 zabezpečení rostoucí úrovně dodavatelských služeb (stupeň zajištěnosti dodávky –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 je nutno zvýšit pojistnou zásobu, s jejímž držením jsou však spojeny náklad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opak se snižuje riziko vyčerpání zásoby, snižují se tedy náklady defici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E8B3-D611-4F8F-847F-CF0C24DA0FD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9:00:10Z</dcterms:created>
  <dc:creator>Danuše Bauerová</dc:creator>
  <dc:description/>
  <dc:language>en-US</dc:language>
  <cp:lastModifiedBy>sed02</cp:lastModifiedBy>
  <cp:lastPrinted>1998-09-10T10:11:28Z</cp:lastPrinted>
  <dcterms:modified xsi:type="dcterms:W3CDTF">2010-11-23T07:42:56Z</dcterms:modified>
  <cp:revision>286</cp:revision>
  <dc:subject/>
  <dc:title>bez titulu</dc:title>
</cp:coreProperties>
</file>