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BC4EF-6693-42DF-9076-0DAF1A7E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E882-2A05-48BA-8057-2E2EFC1B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575FC-9090-4AFB-A9AA-79B13E83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D0C5B-B5DB-4E94-B5C6-0DDB2A642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ED83B-7AF6-448A-920F-E232880E9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DBB24-BAD7-4252-9CEA-F950D5524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DD85-E8B1-4839-B4D7-C7E5D846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2E71E-68E6-494A-B4FE-CE47DD4A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4D7C7-6EA9-483A-9B99-39A6E9D3B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3DA8D-60F4-487B-8FB1-C8FBF82E4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D3228-30AF-4852-B67D-5570D1F0B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5D42-6B1D-4C1D-849E-3D381F16B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1C5E-8533-4367-B21C-E8511534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23A6F-0D7C-4D5E-890B-AFAE762B6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E6917-C1EF-46D9-80AD-3A1DCA428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23286-D8A9-4B61-B383-AFC48CCE3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93128-8E29-4A28-8513-62CDC0A60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DE47-6FB6-42A0-9FA8-C4BE70A7F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1956-8AB9-4C22-B83C-7BBADFE7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00492-C2B8-497B-AB06-A790B5039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F0C7-0C2A-47CD-BAC4-A8C85B8F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447D-E003-4810-99AD-9F0026C4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B3D8-4E68-40F3-B078-E426D0C4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82FE-3108-4112-90C6-1AADA20A5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EE9F-8BCB-46DC-9F3E-9FFAB9FB6C75}" type="slidenum">
              <a:rPr b="0" lang="sk-S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08CE-2861-4547-8885-C397A1432FED}" type="slidenum">
              <a:rPr b="0" lang="sk-S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spoma-martin.sk/sluzby.htm" TargetMode="External"/><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000000"/>
                </a:solidFill>
                <a:latin typeface="Verdana"/>
              </a:rPr>
              <a:t>Súkromné bezpečnostné služby</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g. Andrej Veľas, PhD.</a:t>
            </a:r>
            <a:endParaRPr b="0" lang="en-US" sz="2800" spc="-1" strike="noStrike">
              <a:solidFill>
                <a:srgbClr val="000000"/>
              </a:solidFill>
              <a:latin typeface="Verdana"/>
            </a:endParaRPr>
          </a:p>
        </p:txBody>
      </p:sp>
      <p:pic>
        <p:nvPicPr>
          <p:cNvPr id="87" name="Picture 4" descr="zu1"/>
          <p:cNvPicPr/>
          <p:nvPr/>
        </p:nvPicPr>
        <p:blipFill>
          <a:blip r:embed="rId1"/>
          <a:stretch/>
        </p:blipFill>
        <p:spPr>
          <a:xfrm>
            <a:off x="250920" y="189000"/>
            <a:ext cx="853920" cy="863640"/>
          </a:xfrm>
          <a:prstGeom prst="rect">
            <a:avLst/>
          </a:prstGeom>
          <a:ln w="0">
            <a:noFill/>
          </a:ln>
        </p:spPr>
      </p:pic>
      <p:pic>
        <p:nvPicPr>
          <p:cNvPr id="88" name="Picture 5" descr="Fsi_znak"/>
          <p:cNvPicPr/>
          <p:nvPr/>
        </p:nvPicPr>
        <p:blipFill>
          <a:blip r:embed="rId2"/>
          <a:stretch/>
        </p:blipFill>
        <p:spPr>
          <a:xfrm>
            <a:off x="5867280" y="189000"/>
            <a:ext cx="863640" cy="852480"/>
          </a:xfrm>
          <a:prstGeom prst="rect">
            <a:avLst/>
          </a:prstGeom>
          <a:ln w="0">
            <a:noFill/>
          </a:ln>
        </p:spPr>
      </p:pic>
      <p:sp>
        <p:nvSpPr>
          <p:cNvPr id="89" name="Text Box 6"/>
          <p:cNvSpPr/>
          <p:nvPr/>
        </p:nvSpPr>
        <p:spPr>
          <a:xfrm>
            <a:off x="1116000" y="189000"/>
            <a:ext cx="475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Žilinská univerzita v Žiline</a:t>
            </a:r>
            <a:endParaRPr b="0" lang="en-US" sz="2800" spc="-1" strike="noStrike">
              <a:solidFill>
                <a:srgbClr val="000000"/>
              </a:solidFill>
              <a:latin typeface="Verdana"/>
            </a:endParaRPr>
          </a:p>
        </p:txBody>
      </p:sp>
      <p:sp>
        <p:nvSpPr>
          <p:cNvPr id="90" name="Text Box 7"/>
          <p:cNvSpPr/>
          <p:nvPr/>
        </p:nvSpPr>
        <p:spPr>
          <a:xfrm>
            <a:off x="1547640" y="620640"/>
            <a:ext cx="360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Fakulta špeciálneho inžinierstva</a:t>
            </a:r>
            <a:endParaRPr b="0" lang="en-US" sz="1600" spc="-1" strike="noStrike">
              <a:solidFill>
                <a:srgbClr val="000000"/>
              </a:solidFill>
              <a:latin typeface="Verdana"/>
            </a:endParaRPr>
          </a:p>
        </p:txBody>
      </p:sp>
      <p:pic>
        <p:nvPicPr>
          <p:cNvPr id="91" name="Picture 9" descr="kluc1">
            <a:hlinkClick r:id="rId3"/>
          </p:cNvPr>
          <p:cNvPicPr/>
          <p:nvPr/>
        </p:nvPicPr>
        <p:blipFill>
          <a:blip r:embed="rId4"/>
          <a:stretch/>
        </p:blipFill>
        <p:spPr>
          <a:xfrm>
            <a:off x="5364000" y="4292640"/>
            <a:ext cx="3515040" cy="232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Bezpečnostná služba</a:t>
            </a:r>
            <a:endParaRPr b="0" lang="en-US" sz="3800" spc="-1" strike="noStrike">
              <a:solidFill>
                <a:srgbClr val="000000"/>
              </a:solidFill>
              <a:latin typeface="Verdana"/>
            </a:endParaRPr>
          </a:p>
        </p:txBody>
      </p:sp>
      <p:sp>
        <p:nvSpPr>
          <p:cNvPr id="111" name="PlaceHolder 2"/>
          <p:cNvSpPr>
            <a:spLocks noGrp="1"/>
          </p:cNvSpPr>
          <p:nvPr>
            <p:ph/>
          </p:nvPr>
        </p:nvSpPr>
        <p:spPr>
          <a:xfrm>
            <a:off x="566280" y="1752120"/>
            <a:ext cx="8001000" cy="16052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strážna služb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detektívna služb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odborná príprava a poradenstvo</a:t>
            </a:r>
            <a:endParaRPr b="0" lang="en-US" sz="3000" spc="-1" strike="noStrike">
              <a:solidFill>
                <a:srgbClr val="000000"/>
              </a:solidFill>
              <a:latin typeface="Verdana"/>
            </a:endParaRPr>
          </a:p>
        </p:txBody>
      </p:sp>
      <p:sp>
        <p:nvSpPr>
          <p:cNvPr id="112" name="Text Box 4"/>
          <p:cNvSpPr/>
          <p:nvPr/>
        </p:nvSpPr>
        <p:spPr>
          <a:xfrm>
            <a:off x="684360" y="3573360"/>
            <a:ext cx="77040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Verdana"/>
              </a:rPr>
              <a:t>Fyzická osoba alebo právnická osoba prevádzkuje bezpečnostnú službu pre iné osoby alebo ako </a:t>
            </a:r>
            <a:r>
              <a:rPr b="0" lang="sk-SK" sz="2800" spc="-1" strike="noStrike">
                <a:solidFill>
                  <a:srgbClr val="cc0000"/>
                </a:solidFill>
                <a:latin typeface="Verdana"/>
              </a:rPr>
              <a:t>vlastnú ochranu</a:t>
            </a:r>
            <a:r>
              <a:rPr b="0" lang="sk-SK"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179280" y="276120"/>
            <a:ext cx="8713800" cy="625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trážna služba </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chrana  majetku  na  verejne  prístupnom  miest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chrana majetku na inom než verejne prístupnom miest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chrana osoby,</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chrana majetku a osoby pri preprav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chrana prepravy majetku a osoby,</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abezpečovanie  poriadku na mieste zhromažďovania osôb,</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vádzkovanie zabezpečovacieho systému alebo poplachového systému, prevádzkovanie ich častí, vyhodnocovanie narušenia chráneného objektu alebo chráneného miesta,</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vypracúvanie plánu ochran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Detektívna služba</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hľadanie osoby,</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hľadanie majetku,</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monitorovanie činnosti osoby v uzavretom priestore alebo na uzavretom miest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ískavanie údajov,  ktoré  môžu  slúžiť  ako  dôkazný  prostriedok v konaní pred súdom alebo správnym orgánom,</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ískavanie  údajov  o  osobnom  stave  fyzickej osoby  a získavanie informácií o  konaní fyzickej osoby  alebo právnickej osoby  alebo o ich majetkových pomeroch,</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ískavanie informácií v súvislosti s vymáhaním pohľadávky alebo</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ískavanie údajov o protiprávnom konaní ohrozujúcom obchodné tajomstvo.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Odborná príprava a poradenstvo </a:t>
            </a:r>
            <a:endParaRPr b="0" lang="en-US" sz="3400" spc="-1" strike="noStrike">
              <a:solidFill>
                <a:srgbClr val="000000"/>
              </a:solidFill>
              <a:latin typeface="Verdana"/>
            </a:endParaRPr>
          </a:p>
        </p:txBody>
      </p:sp>
      <p:sp>
        <p:nvSpPr>
          <p:cNvPr id="119" name="PlaceHolder 2"/>
          <p:cNvSpPr>
            <a:spLocks noGrp="1"/>
          </p:cNvSpPr>
          <p:nvPr>
            <p:ph/>
          </p:nvPr>
        </p:nvSpPr>
        <p:spPr>
          <a:xfrm>
            <a:off x="566280" y="1752120"/>
            <a:ext cx="8001000" cy="23972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ríprava na výkon strážnej služby,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ríprava na výkon detektívnej služby, </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oskytovanie odborných rád pri prevádzkovaní strážnej služby alebo</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oskytovanie odborných rád pri prevádzkovaní detektívnej služb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Vlastná ochrana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120"/>
            <a:ext cx="8001000" cy="2181240"/>
          </a:xfrm>
          <a:prstGeom prst="rect">
            <a:avLst/>
          </a:prstGeom>
          <a:noFill/>
          <a:ln w="0">
            <a:noFill/>
          </a:ln>
        </p:spPr>
        <p:txBody>
          <a:bodyPr anchor="t">
            <a:normAutofit/>
          </a:bodyPr>
          <a:p>
            <a:pPr marL="469800" indent="-469800" algn="just">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Vlastná ochrana je prevádzkovanie bezpečnostnej služby pre vlastnú potrebu, ak je zabezpečovaná aspoň jednou osobou v pracovnoprávnom vzťah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Technická služba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cká služba  je vývoj, výroba, predaj, projektovanie, montáž, údržba, revízia alebo oprava zabezpečovacích systémov alebo poplachových systémov a systémov a zariadení umožňujúcich sledovanie pohybu  a  konania  osoby  v chránenom objekte, na chránenom mieste alebo v ich okolí. </a:t>
            </a:r>
            <a:endParaRPr b="0" lang="en-US" sz="2400" spc="-1" strike="noStrike">
              <a:solidFill>
                <a:srgbClr val="000000"/>
              </a:solidFill>
              <a:latin typeface="Verdana"/>
            </a:endParaRPr>
          </a:p>
          <a:p>
            <a:pPr marL="469800" indent="-469800" algn="just">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eto ustanovenia sa nevzťahujú na činnosti týkajúce sa mechanických zámkov s menej ako trojbodovým uzamykacím mechanizmom z jedného miesta a prenosných trezoro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ojmy</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zpečnostná prax</a:t>
            </a:r>
            <a:r>
              <a:rPr b="0" lang="en-US" sz="2000" spc="-1" strike="noStrike">
                <a:solidFill>
                  <a:srgbClr val="000000"/>
                </a:solidFill>
                <a:latin typeface="Verdana"/>
              </a:rPr>
              <a:t> - fyzická ochrana, pátranie, odborná príprava a poradenstvo na tieto činnosti, </a:t>
            </a:r>
            <a:endParaRPr b="0" lang="en-US" sz="2000" spc="-1" strike="noStrike">
              <a:solidFill>
                <a:srgbClr val="000000"/>
              </a:solidFill>
              <a:latin typeface="Verdana"/>
            </a:endParaRPr>
          </a:p>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yzická ochranou</a:t>
            </a:r>
            <a:r>
              <a:rPr b="0" lang="en-US" sz="2000" spc="-1" strike="noStrike">
                <a:solidFill>
                  <a:srgbClr val="000000"/>
                </a:solidFill>
                <a:latin typeface="Verdana"/>
              </a:rPr>
              <a:t> - obchôdzka, stráženie, prevádzkovanie zabezpečovacieho systému alebo poplachového systému a priame riadenie a kontrola týchto činností,</a:t>
            </a:r>
            <a:endParaRPr b="0" lang="en-US" sz="2000" spc="-1" strike="noStrike">
              <a:solidFill>
                <a:srgbClr val="000000"/>
              </a:solidFill>
              <a:latin typeface="Verdana"/>
            </a:endParaRPr>
          </a:p>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átranie</a:t>
            </a:r>
            <a:r>
              <a:rPr b="0" lang="en-US" sz="2000" spc="-1" strike="noStrike">
                <a:solidFill>
                  <a:srgbClr val="000000"/>
                </a:solidFill>
                <a:latin typeface="Verdana"/>
              </a:rPr>
              <a:t> - priamy výkon činností uvedených v </a:t>
            </a:r>
            <a:r>
              <a:rPr b="0" lang="en-US" sz="2000" spc="-1" strike="noStrike" u="sng">
                <a:solidFill>
                  <a:srgbClr val="336699"/>
                </a:solidFill>
                <a:uFillTx/>
                <a:latin typeface="Verdana"/>
                <a:hlinkClick r:id="rId1" action="ppaction://hlinksldjump"/>
              </a:rPr>
              <a:t>detektívnej službe </a:t>
            </a:r>
            <a:r>
              <a:rPr b="0" lang="en-US" sz="2000" spc="-1" strike="noStrike" u="sng">
                <a:solidFill>
                  <a:srgbClr val="000000"/>
                </a:solidFill>
                <a:uFillTx/>
                <a:latin typeface="Verdana"/>
              </a:rPr>
              <a:t>a priame riadenie a kontrola týchto činností,</a:t>
            </a:r>
            <a:endParaRPr b="0" lang="en-US" sz="2000" spc="-1" strike="noStrike">
              <a:solidFill>
                <a:srgbClr val="000000"/>
              </a:solidFill>
              <a:latin typeface="Verdana"/>
            </a:endParaRPr>
          </a:p>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chôdzka</a:t>
            </a:r>
            <a:r>
              <a:rPr b="0" lang="en-US" sz="2000" spc="-1" strike="noStrike">
                <a:solidFill>
                  <a:srgbClr val="000000"/>
                </a:solidFill>
                <a:latin typeface="Verdana"/>
              </a:rPr>
              <a:t> -  priamy  výkon  činností  (ochrana  majetku  na  verejne  prístupnom  mieste, ochrana majetku na inom než verejne prístupnom mieste, zabezpečovanie  poriadku na mieste zhromažďovania osôb,)  striedavým premiestňovaním sa osoby poverenej výkonom fyzickej ochrany v tom istom chránenom objekte alebo na tom istom chránenom mies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ojmy</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Verdana"/>
              </a:rPr>
              <a:t>stráženie</a:t>
            </a:r>
            <a:r>
              <a:rPr b="0" lang="sk-SK" sz="2000" spc="-1" strike="noStrike">
                <a:solidFill>
                  <a:srgbClr val="000000"/>
                </a:solidFill>
                <a:latin typeface="Verdana"/>
              </a:rPr>
              <a:t> - priamy výkon činností  prítomnosťou osoby poverenej výkonom fyzickej ochrany na strážnom stanovisku v chránenom objekte, na chránenom mieste alebo pri chránenej osobe alebo pri chránenom majetku, kde tieto činnosti má vykonávať,</a:t>
            </a:r>
            <a:endParaRPr b="0" lang="en-US" sz="2000" spc="-1" strike="noStrike">
              <a:solidFill>
                <a:srgbClr val="000000"/>
              </a:solidFill>
              <a:latin typeface="Verdana"/>
            </a:endParaRPr>
          </a:p>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Verdana"/>
              </a:rPr>
              <a:t>zásah</a:t>
            </a:r>
            <a:r>
              <a:rPr b="0" lang="sk-SK" sz="2000" spc="-1" strike="noStrike">
                <a:solidFill>
                  <a:srgbClr val="000000"/>
                </a:solidFill>
                <a:latin typeface="Verdana"/>
              </a:rPr>
              <a:t> - činnosť osoby poverenej výkonom fyzickej ochrany alebo pátrania, pri ktorej sa zasahuje do základných práv a slobôd inej osoby,</a:t>
            </a:r>
            <a:endParaRPr b="0" lang="en-US" sz="2000" spc="-1" strike="noStrike">
              <a:solidFill>
                <a:srgbClr val="000000"/>
              </a:solidFill>
              <a:latin typeface="Verdana"/>
            </a:endParaRPr>
          </a:p>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Verdana"/>
              </a:rPr>
              <a:t>zabezpečovací systém</a:t>
            </a:r>
            <a:r>
              <a:rPr b="0" lang="sk-SK" sz="2000" spc="-1" strike="noStrike">
                <a:solidFill>
                  <a:srgbClr val="000000"/>
                </a:solidFill>
                <a:latin typeface="Verdana"/>
              </a:rPr>
              <a:t> - sústava elektrických,  elektronických,  mechanických    alebo iných súčiastok tvoriacich pevne zabudovanú prekážku zabraňujúcu vstupu osoby alebo zvieraťa do chráneného  objektu alebo  na chránené miesto alebo  výstupu z nich, alebo  vjazdu dopravného prostriedku do chráneného  objektu alebo na chránené miesto alebo výjazdu  z nich, ktoré nemožno prekonať bez odborných znalostí alebo použitia si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ojmy</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100" spc="-1" strike="noStrike">
                <a:solidFill>
                  <a:srgbClr val="000000"/>
                </a:solidFill>
                <a:latin typeface="Verdana"/>
              </a:rPr>
              <a:t>poplachový systém</a:t>
            </a:r>
            <a:r>
              <a:rPr b="0" lang="sk-SK" sz="2100" spc="-1" strike="noStrike">
                <a:solidFill>
                  <a:srgbClr val="000000"/>
                </a:solidFill>
                <a:latin typeface="Verdana"/>
              </a:rPr>
              <a:t> - sústava elektrických,   elektronických,   mechanických   alebo iných súčiastok tvoriacich  predmet pevne  zabudovaný  na chránenom  objekte alebo  na chránenom mieste alebo v chránenom objekte, ktorý po  neoprávnenom  zásahu na  chránenom objekte alebo na chránenom  mieste  alebo  po  neoprávnenom  zásahu  do  chráneného objektu, alebo do chráneného miesta  vyvolá svetelný, zvukový alebo iný  signál,</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100" spc="-1" strike="noStrike">
                <a:solidFill>
                  <a:srgbClr val="000000"/>
                </a:solidFill>
                <a:latin typeface="Verdana"/>
              </a:rPr>
              <a:t>vecný bezpečnostný prostriedok</a:t>
            </a:r>
            <a:r>
              <a:rPr b="0" lang="sk-SK" sz="2100" spc="-1" strike="noStrike">
                <a:solidFill>
                  <a:srgbClr val="000000"/>
                </a:solidFill>
                <a:latin typeface="Verdana"/>
              </a:rPr>
              <a:t> - vec, vrátane zvieraťa, ktorá je určená na to, aby sa  použila ako zbraň alebo vec na zastavenie,  prípadne  obmedzenie  pohybu  osoby,  zvieraťa  alebo vozidla alebo na obmedzenie funkcie iného technického zariadeni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560"/>
            <a:ext cx="8001000" cy="103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Klasifikácia bezpečnostných zložiek</a:t>
            </a:r>
            <a:endParaRPr b="0" lang="en-US" sz="3400" spc="-1" strike="noStrike">
              <a:solidFill>
                <a:srgbClr val="000000"/>
              </a:solidFill>
              <a:latin typeface="Verdana"/>
            </a:endParaRPr>
          </a:p>
        </p:txBody>
      </p:sp>
      <p:sp>
        <p:nvSpPr>
          <p:cNvPr id="93" name="PlaceHolder 2"/>
          <p:cNvSpPr>
            <a:spLocks noGrp="1"/>
          </p:cNvSpPr>
          <p:nvPr>
            <p:ph/>
          </p:nvPr>
        </p:nvSpPr>
        <p:spPr>
          <a:xfrm>
            <a:off x="457200" y="1671480"/>
            <a:ext cx="8229600" cy="4421520"/>
          </a:xfrm>
          <a:prstGeom prst="rect">
            <a:avLst/>
          </a:prstGeom>
          <a:solidFill>
            <a:srgbClr val="ffffff">
              <a:alpha val="80000"/>
            </a:srgbClr>
          </a:solidFill>
          <a:ln w="0">
            <a:noFill/>
          </a:ln>
        </p:spPr>
        <p:txBody>
          <a:bodyPr anchor="t">
            <a:normAutofit fontScale="98000"/>
          </a:bodyPr>
          <a:p>
            <a:pPr marL="5972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Bezpečnostné zložky v SR je možné klasifikovať podľa:</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vzťahu k štátu,</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zriaďovateľa, alebo „prevádzkovateľa</a:t>
            </a:r>
            <a:r>
              <a:rPr b="0" lang="ja-JP" sz="2600" spc="-1" strike="noStrike">
                <a:solidFill>
                  <a:srgbClr val="cc0000"/>
                </a:solidFill>
                <a:latin typeface="Arial"/>
              </a:rPr>
              <a:t>“</a:t>
            </a:r>
            <a:r>
              <a:rPr b="0" lang="sk-SK" sz="2600" spc="-1" strike="noStrike">
                <a:solidFill>
                  <a:srgbClr val="cc0000"/>
                </a:solidFill>
                <a:latin typeface="Verdana"/>
              </a:rPr>
              <a:t>,</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charakteristiky zákonnej úpravy jednotlivých bezpečnostných služieb,</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smerov a druhov činností bezpečnostných služieb (podľa hlavných organizačno-taktických foriem),</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teritoriálnej a vecnej pôsobnosti,</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činnosti bezpečnostných služieb,</a:t>
            </a:r>
            <a:endParaRPr b="0" lang="en-US" sz="2600" spc="-1" strike="noStrike">
              <a:solidFill>
                <a:srgbClr val="000000"/>
              </a:solidFill>
              <a:latin typeface="Verdana"/>
            </a:endParaRPr>
          </a:p>
          <a:p>
            <a:pPr marL="597240" indent="-59724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cc0000"/>
                </a:solidFill>
                <a:latin typeface="Verdana"/>
              </a:rPr>
              <a:t>úrovní riadenia bezpečnostných služie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7" dur="2000"/>
                                        <p:tgtEl>
                                          <p:spTgt spid="93">
                                            <p:txEl>
                                              <p:pRg st="1" end="1"/>
                                            </p:txEl>
                                          </p:spTgt>
                                        </p:tgtEl>
                                      </p:cBhvr>
                                    </p:animEffect>
                                  </p:childTnLst>
                                </p:cTn>
                              </p:par>
                            </p:childTnLst>
                          </p:cTn>
                        </p:par>
                        <p:par>
                          <p:cTn id="8" nodeType="afterEffect"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11" dur="2000"/>
                                        <p:tgtEl>
                                          <p:spTgt spid="93">
                                            <p:txEl>
                                              <p:pRg st="2" end="2"/>
                                            </p:txEl>
                                          </p:spTgt>
                                        </p:tgtEl>
                                      </p:cBhvr>
                                    </p:animEffect>
                                  </p:childTnLst>
                                </p:cTn>
                              </p:par>
                            </p:childTnLst>
                          </p:cTn>
                        </p:par>
                        <p:par>
                          <p:cTn id="12" nodeType="afterEffect" fill="hold">
                            <p:stCondLst>
                              <p:cond delay="4000"/>
                            </p:stCondLst>
                            <p:childTnLst>
                              <p:par>
                                <p:cTn id="13" nodeType="afterEffect" fill="hold" presetClass="entr" presetID="12" presetSubtype="4">
                                  <p:stCondLst>
                                    <p:cond delay="0"/>
                                  </p:stCondLst>
                                  <p:childTnLst>
                                    <p:set>
                                      <p:cBhvr>
                                        <p:cTn id="14" dur="1" fill="hold">
                                          <p:stCondLst>
                                            <p:cond delay="0"/>
                                          </p:stCondLst>
                                        </p:cTn>
                                        <p:tgtEl>
                                          <p:spTgt spid="93">
                                            <p:txEl>
                                              <p:pRg st="3" end="3"/>
                                            </p:txEl>
                                          </p:spTgt>
                                        </p:tgtEl>
                                        <p:attrNameLst>
                                          <p:attrName>style.visibility</p:attrName>
                                        </p:attrNameLst>
                                      </p:cBhvr>
                                      <p:to>
                                        <p:strVal val="visible"/>
                                      </p:to>
                                    </p:set>
                                    <p:animEffect filter="slide(fromBottom)" transition="in">
                                      <p:cBhvr additive="repl">
                                        <p:cTn id="15" dur="2000"/>
                                        <p:tgtEl>
                                          <p:spTgt spid="93">
                                            <p:txEl>
                                              <p:pRg st="3" end="3"/>
                                            </p:txEl>
                                          </p:spTgt>
                                        </p:tgtEl>
                                      </p:cBhvr>
                                    </p:animEffect>
                                  </p:childTnLst>
                                </p:cTn>
                              </p:par>
                            </p:childTnLst>
                          </p:cTn>
                        </p:par>
                        <p:par>
                          <p:cTn id="16" nodeType="afterEffect" fill="hold">
                            <p:stCondLst>
                              <p:cond delay="6000"/>
                            </p:stCondLst>
                            <p:childTnLst>
                              <p:par>
                                <p:cTn id="17" nodeType="afterEffect" fill="hold" presetClass="entr" presetID="1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19" dur="2000"/>
                                        <p:tgtEl>
                                          <p:spTgt spid="93">
                                            <p:txEl>
                                              <p:pRg st="4" end="4"/>
                                            </p:txEl>
                                          </p:spTgt>
                                        </p:tgtEl>
                                      </p:cBhvr>
                                    </p:animEffect>
                                  </p:childTnLst>
                                </p:cTn>
                              </p:par>
                            </p:childTnLst>
                          </p:cTn>
                        </p:par>
                        <p:par>
                          <p:cTn id="20" nodeType="afterEffect" fill="hold">
                            <p:stCondLst>
                              <p:cond delay="8000"/>
                            </p:stCondLst>
                            <p:childTnLst>
                              <p:par>
                                <p:cTn id="21" nodeType="afterEffect" fill="hold" presetClass="entr" presetID="12" presetSubtype="4">
                                  <p:stCondLst>
                                    <p:cond delay="0"/>
                                  </p:stCondLst>
                                  <p:childTnLst>
                                    <p:set>
                                      <p:cBhvr>
                                        <p:cTn id="22" dur="1" fill="hold">
                                          <p:stCondLst>
                                            <p:cond delay="0"/>
                                          </p:stCondLst>
                                        </p:cTn>
                                        <p:tgtEl>
                                          <p:spTgt spid="93">
                                            <p:txEl>
                                              <p:pRg st="5" end="5"/>
                                            </p:txEl>
                                          </p:spTgt>
                                        </p:tgtEl>
                                        <p:attrNameLst>
                                          <p:attrName>style.visibility</p:attrName>
                                        </p:attrNameLst>
                                      </p:cBhvr>
                                      <p:to>
                                        <p:strVal val="visible"/>
                                      </p:to>
                                    </p:set>
                                    <p:animEffect filter="slide(fromBottom)" transition="in">
                                      <p:cBhvr additive="repl">
                                        <p:cTn id="23" dur="2000"/>
                                        <p:tgtEl>
                                          <p:spTgt spid="93">
                                            <p:txEl>
                                              <p:pRg st="5" end="5"/>
                                            </p:txEl>
                                          </p:spTgt>
                                        </p:tgtEl>
                                      </p:cBhvr>
                                    </p:animEffect>
                                  </p:childTnLst>
                                </p:cTn>
                              </p:par>
                            </p:childTnLst>
                          </p:cTn>
                        </p:par>
                        <p:par>
                          <p:cTn id="24" nodeType="afterEffect" fill="hold">
                            <p:stCondLst>
                              <p:cond delay="10000"/>
                            </p:stCondLst>
                            <p:childTnLst>
                              <p:par>
                                <p:cTn id="25" nodeType="afterEffect" fill="hold" presetClass="entr" presetID="12" presetSubtype="4">
                                  <p:stCondLst>
                                    <p:cond delay="0"/>
                                  </p:stCondLst>
                                  <p:childTnLst>
                                    <p:set>
                                      <p:cBhvr>
                                        <p:cTn id="26"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27" dur="2000"/>
                                        <p:tgtEl>
                                          <p:spTgt spid="93">
                                            <p:txEl>
                                              <p:pRg st="6" end="6"/>
                                            </p:txEl>
                                          </p:spTgt>
                                        </p:tgtEl>
                                      </p:cBhvr>
                                    </p:animEffect>
                                  </p:childTnLst>
                                </p:cTn>
                              </p:par>
                            </p:childTnLst>
                          </p:cTn>
                        </p:par>
                        <p:par>
                          <p:cTn id="28" nodeType="afterEffect" fill="hold">
                            <p:stCondLst>
                              <p:cond delay="12000"/>
                            </p:stCondLst>
                            <p:childTnLst>
                              <p:par>
                                <p:cTn id="29" nodeType="afterEffect" fill="hold" presetClass="entr" presetID="12" presetSubtype="4">
                                  <p:stCondLst>
                                    <p:cond delay="0"/>
                                  </p:stCondLst>
                                  <p:childTnLst>
                                    <p:set>
                                      <p:cBhvr>
                                        <p:cTn id="30" dur="1" fill="hold">
                                          <p:stCondLst>
                                            <p:cond delay="0"/>
                                          </p:stCondLst>
                                        </p:cTn>
                                        <p:tgtEl>
                                          <p:spTgt spid="93">
                                            <p:txEl>
                                              <p:pRg st="7" end="7"/>
                                            </p:txEl>
                                          </p:spTgt>
                                        </p:tgtEl>
                                        <p:attrNameLst>
                                          <p:attrName>style.visibility</p:attrName>
                                        </p:attrNameLst>
                                      </p:cBhvr>
                                      <p:to>
                                        <p:strVal val="visible"/>
                                      </p:to>
                                    </p:set>
                                    <p:animEffect filter="slide(fromBottom)" transition="in">
                                      <p:cBhvr additive="repl">
                                        <p:cTn id="31" dur="20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Bezpečnostná služba</a:t>
            </a:r>
            <a:endParaRPr b="0" lang="en-US" sz="3800" spc="-1" strike="noStrike">
              <a:solidFill>
                <a:srgbClr val="000000"/>
              </a:solidFill>
              <a:latin typeface="Verdana"/>
            </a:endParaRPr>
          </a:p>
        </p:txBody>
      </p:sp>
      <p:sp>
        <p:nvSpPr>
          <p:cNvPr id="131" name="PlaceHolder 2"/>
          <p:cNvSpPr>
            <a:spLocks noGrp="1"/>
          </p:cNvSpPr>
          <p:nvPr>
            <p:ph/>
          </p:nvPr>
        </p:nvSpPr>
        <p:spPr>
          <a:xfrm>
            <a:off x="566280" y="2565000"/>
            <a:ext cx="8001000" cy="2303640"/>
          </a:xfrm>
          <a:prstGeom prst="rect">
            <a:avLst/>
          </a:prstGeom>
          <a:noFill/>
          <a:ln w="0">
            <a:noFill/>
          </a:ln>
        </p:spPr>
        <p:txBody>
          <a:bodyPr anchor="t">
            <a:normAutofit/>
          </a:bodyPr>
          <a:p>
            <a:pPr marL="469800" indent="-46980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bezpečnostnú službu možno prevádzkovať na základe licencie na prevádzkovanie bezpečnostnej služby.</a:t>
            </a:r>
            <a:endParaRPr b="0" lang="en-US" sz="1900" spc="-1" strike="noStrike">
              <a:solidFill>
                <a:srgbClr val="000000"/>
              </a:solidFill>
              <a:latin typeface="Verdana"/>
            </a:endParaRPr>
          </a:p>
          <a:p>
            <a:pPr marL="469800" indent="-46980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o udelení licencie na prevádzkovanie bezpečnostnej služby  rozhoduje   krajské  riaditeľstvo Policajného  zboru na základe žiadosti fyzickej osoby alebo právnickej osoby. Licencia na prevádzkovanie bezpečnostnej služby sa vydáva na desať rokov, ak tento zákon neustanovuje inak.</a:t>
            </a:r>
            <a:endParaRPr b="0" lang="en-US" sz="1900" spc="-1" strike="noStrike">
              <a:solidFill>
                <a:srgbClr val="000000"/>
              </a:solidFill>
              <a:latin typeface="Verdana"/>
            </a:endParaRPr>
          </a:p>
        </p:txBody>
      </p:sp>
      <p:sp>
        <p:nvSpPr>
          <p:cNvPr id="132" name="Text Box 4"/>
          <p:cNvSpPr/>
          <p:nvPr/>
        </p:nvSpPr>
        <p:spPr>
          <a:xfrm>
            <a:off x="468360" y="1844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Verdana"/>
              </a:rPr>
              <a:t>Oprávnenie prevádzkovať bezpečnostnú službu</a:t>
            </a:r>
            <a:endParaRPr b="0" lang="en-US" sz="2400" spc="-1" strike="noStrike">
              <a:solidFill>
                <a:srgbClr val="000000"/>
              </a:solidFill>
              <a:latin typeface="Verdana"/>
            </a:endParaRPr>
          </a:p>
        </p:txBody>
      </p:sp>
      <p:sp>
        <p:nvSpPr>
          <p:cNvPr id="133" name="Text Box 5"/>
          <p:cNvSpPr/>
          <p:nvPr/>
        </p:nvSpPr>
        <p:spPr>
          <a:xfrm>
            <a:off x="611280" y="4869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Licencia na prevádzkovanie bezpečnostnej služby je verejná listina a je neprevoditeľná.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Vznik oprávnenia prevádzkovať bezpečnostnú službu</a:t>
            </a:r>
            <a:endParaRPr b="0" lang="en-US" sz="3400" spc="-1" strike="noStrike">
              <a:solidFill>
                <a:srgbClr val="000000"/>
              </a:solidFill>
              <a:latin typeface="Verdana"/>
            </a:endParaRPr>
          </a:p>
        </p:txBody>
      </p:sp>
      <p:sp>
        <p:nvSpPr>
          <p:cNvPr id="135" name="PlaceHolder 2"/>
          <p:cNvSpPr>
            <a:spLocks noGrp="1"/>
          </p:cNvSpPr>
          <p:nvPr>
            <p:ph/>
          </p:nvPr>
        </p:nvSpPr>
        <p:spPr>
          <a:xfrm>
            <a:off x="566280" y="1752120"/>
            <a:ext cx="8001000" cy="369252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právnenie prevádzkovať bezpečnostnú službu vzniká doručením licencie na prevádzkovanie bezpečnostnej služby. Osobe, ktorá sa povinne zapisuje do obchodného registra, vzniká oprávnenie prevádzkovať bezpečnostnú službu dňom zápisu do tohto registra, ak deň zápisu do obchodného registra je neskorší ako deň doručenia licencie na prevádzkovanie bezpečnostnej služby.</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Verdana"/>
              </a:rPr>
              <a:t>Podmienky udelenia licencie na prevádzkovanie bezpečnostnej služby fyzickej osobe</a:t>
            </a:r>
            <a:endParaRPr b="0" lang="en-US" sz="2800" spc="-1" strike="noStrike">
              <a:solidFill>
                <a:srgbClr val="000000"/>
              </a:solidFill>
              <a:latin typeface="Verdana"/>
            </a:endParaRPr>
          </a:p>
        </p:txBody>
      </p:sp>
      <p:sp>
        <p:nvSpPr>
          <p:cNvPr id="137" name="PlaceHolder 2"/>
          <p:cNvSpPr>
            <a:spLocks noGrp="1"/>
          </p:cNvSpPr>
          <p:nvPr>
            <p:ph/>
          </p:nvPr>
        </p:nvSpPr>
        <p:spPr>
          <a:xfrm>
            <a:off x="566280" y="3141360"/>
            <a:ext cx="8001000" cy="2878200"/>
          </a:xfrm>
          <a:prstGeom prst="rect">
            <a:avLst/>
          </a:prstGeom>
          <a:noFill/>
          <a:ln w="0">
            <a:noFill/>
          </a:ln>
        </p:spPr>
        <p:txBody>
          <a:bodyPr anchor="t">
            <a:normAutofit/>
          </a:bodyPr>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je  občanom   členského   štátu  Európskej  únie,  občanom  iného  zmluvného  štátu  dohody o  Európskom  hospodárskom  priestore  alebo  občanom  Švajčiarskej  konfederácie,</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dosiahla vek 21 rokov,</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má spôsobilosť na právne úkony v plnom rozsahu,</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je bezúhonná,</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je spoľahlivá, </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je zdravotne spôsobilá,</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má požadovanú odbornú spôsobilosť.</a:t>
            </a:r>
            <a:endParaRPr b="0" lang="en-US" sz="1900" spc="-1" strike="noStrike">
              <a:solidFill>
                <a:srgbClr val="000000"/>
              </a:solidFill>
              <a:latin typeface="Verdana"/>
            </a:endParaRPr>
          </a:p>
        </p:txBody>
      </p:sp>
      <p:sp>
        <p:nvSpPr>
          <p:cNvPr id="138" name="Text Box 4"/>
          <p:cNvSpPr/>
          <p:nvPr/>
        </p:nvSpPr>
        <p:spPr>
          <a:xfrm>
            <a:off x="539640" y="19162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Verdana"/>
              </a:rPr>
              <a:t>Krajské riaditeľstvo PZ udelí licenciu na prevádzkovanie bezpečnostnej služby fyzickej osobe, ak tomu nebráni záujem vnútorného poriadku a bezpečnosti a ak: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Verdana"/>
              </a:rPr>
              <a:t>Podmienky udelenia licencie na prevádzkovanie bezpečnostnej služby právnickej osobe</a:t>
            </a:r>
            <a:endParaRPr b="0" lang="en-US" sz="2800" spc="-1" strike="noStrike">
              <a:solidFill>
                <a:srgbClr val="000000"/>
              </a:solidFill>
              <a:latin typeface="Verdana"/>
            </a:endParaRPr>
          </a:p>
        </p:txBody>
      </p:sp>
      <p:sp>
        <p:nvSpPr>
          <p:cNvPr id="140" name="PlaceHolder 2"/>
          <p:cNvSpPr>
            <a:spLocks noGrp="1"/>
          </p:cNvSpPr>
          <p:nvPr>
            <p:ph/>
          </p:nvPr>
        </p:nvSpPr>
        <p:spPr>
          <a:xfrm>
            <a:off x="747720" y="3357360"/>
            <a:ext cx="7711920" cy="2374920"/>
          </a:xfrm>
          <a:prstGeom prst="rect">
            <a:avLst/>
          </a:prstGeom>
          <a:noFill/>
          <a:ln w="0">
            <a:noFill/>
          </a:ln>
        </p:spPr>
        <p:txBody>
          <a:bodyPr anchor="t">
            <a:normAutofit/>
          </a:bodyPr>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fyzická osoba alebo fyzické osoby, ktoré sú jej štatutárnym orgánom alebo členmi štatutárneho orgánu,  spĺňajú podmienky  týkajúce sa občianstva,</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fyzická osoba, ktorá má najmenej 15 % majetkový podiel v právnickej osobe, spĺňa  podmienky bezúhonnosti, spoľahlivosti a zdravotnej a odbornej spôsobilosti. </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z obchodného mena právnickej osoby nevyplýva, že plní úlohy verejnej  správy.</a:t>
            </a:r>
            <a:endParaRPr b="0" lang="en-US" sz="1900" spc="-1" strike="noStrike">
              <a:solidFill>
                <a:srgbClr val="000000"/>
              </a:solidFill>
              <a:latin typeface="Verdana"/>
            </a:endParaRPr>
          </a:p>
          <a:p>
            <a:pPr marL="469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41" name="Text Box 4"/>
          <p:cNvSpPr/>
          <p:nvPr/>
        </p:nvSpPr>
        <p:spPr>
          <a:xfrm>
            <a:off x="684360" y="1844640"/>
            <a:ext cx="7920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Verdana"/>
              </a:rPr>
              <a:t>Krajské  riaditeľstvo udelí licenciu na prevádzkovanie bezpečnostnej služby  právnickej osobe, ktorá je spoľahlivá, ak tomu nebráni záujem vnútorného poriadku a bezpečnosti a a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Bezúhonnosť </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Za bezúhonnú osobu sa nepovažuje ten, kto bol právoplatne odsúdený za úmyselný trestný čin alebo iný trestný čin, za ktorý mu bol uložený nepodmienečný trest odňatia slobody v dĺžke viac ako 12 mesiacov. </a:t>
            </a:r>
            <a:endParaRPr b="0" lang="en-US" sz="2500" spc="-1" strike="noStrike">
              <a:solidFill>
                <a:srgbClr val="000000"/>
              </a:solidFill>
              <a:latin typeface="Verdana"/>
            </a:endParaRPr>
          </a:p>
          <a:p>
            <a:pPr marL="469800" indent="-469800" algn="just">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Za bezúhonnú osobu sa nepovažuje ani ten, komu  súd alebo  správny  orgán uložil zákaz činnosti, ktorá súvisí s činnosťou podľa zákona o SBS, alebo ktorá je obsahom  pracovnoprávneho vzťahu podľa zákona o SBS, do skončenia výkonu zákazu činnosti.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Bezúhonnosť</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2828880"/>
          </a:xfrm>
          <a:prstGeom prst="rect">
            <a:avLst/>
          </a:prstGeom>
          <a:noFill/>
          <a:ln w="0">
            <a:noFill/>
          </a:ln>
        </p:spPr>
        <p:txBody>
          <a:bodyPr anchor="t">
            <a:normAutofit/>
          </a:bodyPr>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preukazuje sa odpisom z registra trestov nie starším ako tri mesiace a čestným vyhlásením, že osobe správny orgán neuložil zákaz činnost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poľahlivosť</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Za spoľahlivú osobu sa na účely zák. o SBS nepovažuje ten, kto</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reukázateľne nadmerne požíva alkoholické nápoje alebo preukázateľne požíva iné návykové látky,</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bol v posledných dvoch rokoch uznaný vinným z priestupku na úseku ochrany pred alkoholizmom a inými toxikomániami, z priestupku na úseku používania výbušnín,  z priestupku na úseku strelných zbraní a streliva, z priestupku na úseku obrany Slovenskej republiky, z priestupku proti verejnému poriadku spáchaného neuposlúchnutím výzvy verejného činiteľa pri výkone jeho právomoci, z priestupku proti občianskemu spolunažívaniu spáchaného drobným úmyselným ublížením na zdraví alebo z priestupku proti majetku,  </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bol právoplatne odsúdený za niektorý z trestných činov uvedených v predchádzajúcom odseku a od doby, kedy sa na neho hľadí, ako by nebol odsúdený, neuplynuli tri roky,</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poľahlivosť</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je trestne stíhaný za trestný čin uvedený v druhom odseku, </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bol trestne stíhaný a trestné stíhanie sa skončilo schválením zmieru, ak odo dňa nadobudnutia právoplatnosti rozhodnutia o schválení zmieru neuplynuli tri roky,</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bol trestne stíhaný za trestný čin a trestné stíhanie bolo právoplatne podmienečne zastavené, ak od skončenia skúšobnej doby neuplynuli tri roky,</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odľa zistení ministerstva alebo krajského riaditeľstva neposkytuje záruku, že bude  pri vykonávaní činnosti dodržiavať všeobecne záväzné právne predpisy, povinnosti vyplývajúce z rozhodnutí a iných opatrení   vydaných podľa zákona  o SBS a že bude činnosť podľa tohto zákona vykonávať poctivo.</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Zdravotná spôsobilosť</a:t>
            </a:r>
            <a:endParaRPr b="0" lang="en-US" sz="3800" spc="-1" strike="noStrike">
              <a:solidFill>
                <a:srgbClr val="000000"/>
              </a:solidFill>
              <a:latin typeface="Verdana"/>
            </a:endParaRPr>
          </a:p>
        </p:txBody>
      </p:sp>
      <p:sp>
        <p:nvSpPr>
          <p:cNvPr id="151" name="PlaceHolder 2"/>
          <p:cNvSpPr>
            <a:spLocks noGrp="1"/>
          </p:cNvSpPr>
          <p:nvPr>
            <p:ph/>
          </p:nvPr>
        </p:nvSpPr>
        <p:spPr>
          <a:xfrm>
            <a:off x="566280" y="1752120"/>
            <a:ext cx="8001000" cy="261324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telesná spôsobilosť a psychická spôsobilosť na vykonávanie činností súvisiacich s prevádzkovaním bezpečnostnej služby, ak ju zákon o SBS vyžaduje. Zdravotnú spôsobilosť osoba preukazuje lekárskym posudkom.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Odborná spôsobilosť </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756160"/>
          </a:xfrm>
          <a:prstGeom prst="rect">
            <a:avLst/>
          </a:prstGeom>
          <a:noFill/>
          <a:ln w="0">
            <a:noFill/>
          </a:ln>
        </p:spPr>
        <p:txBody>
          <a:bodyPr anchor="t">
            <a:normAutofit/>
          </a:bodyPr>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Odborne spôsobilou osobou je osoba, ktorá dosiahla vzdelanie ustanovené pre danú činnosť a je držiteľom preukazu odbornej spôsobilost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Systém bezpečnostných zložiek podľa zriaďovateľa</a:t>
            </a:r>
            <a:endParaRPr b="0" lang="en-US" sz="3400" spc="-1" strike="noStrike">
              <a:solidFill>
                <a:srgbClr val="000000"/>
              </a:solidFill>
              <a:latin typeface="Verdana"/>
            </a:endParaRPr>
          </a:p>
        </p:txBody>
      </p:sp>
      <p:sp>
        <p:nvSpPr>
          <p:cNvPr id="95" name="PlaceHolder 2"/>
          <p:cNvSpPr>
            <a:spLocks noGrp="1"/>
          </p:cNvSpPr>
          <p:nvPr>
            <p:ph/>
          </p:nvPr>
        </p:nvSpPr>
        <p:spPr>
          <a:xfrm>
            <a:off x="1115640" y="1846080"/>
            <a:ext cx="7356600" cy="3670200"/>
          </a:xfrm>
          <a:prstGeom prst="rect">
            <a:avLst/>
          </a:prstGeom>
          <a:solidFill>
            <a:srgbClr val="dddddd">
              <a:alpha val="22000"/>
            </a:srgbClr>
          </a:solid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štátne bezpečnostné zložky (Policajný zbor Slovenskej republiky, Železničná polícia, Vojenská polícia, Zbor väzenskej a justičnej stráže, Colníci, Slovenská informačná služba, NBÚ, stráž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neštátne bezpečnostné zložky</a:t>
            </a:r>
            <a:r>
              <a:rPr b="0" lang="sk-SK" sz="2600" spc="-1" strike="noStrike">
                <a:solidFill>
                  <a:srgbClr val="ff0000"/>
                </a:solidFill>
                <a:latin typeface="Verdana"/>
              </a:rPr>
              <a:t> </a:t>
            </a:r>
            <a:r>
              <a:rPr b="0" lang="sk-SK" sz="2600" spc="-1" strike="noStrike">
                <a:solidFill>
                  <a:srgbClr val="000000"/>
                </a:solidFill>
                <a:latin typeface="Verdana"/>
              </a:rPr>
              <a:t>(súkromné bezpečnostné služby, obecné polície).</a:t>
            </a:r>
            <a:endParaRPr b="0" lang="en-US" sz="2600" spc="-1" strike="noStrike">
              <a:solidFill>
                <a:srgbClr val="000000"/>
              </a:solidFill>
              <a:latin typeface="Verdana"/>
            </a:endParaRPr>
          </a:p>
        </p:txBody>
      </p:sp>
      <p:sp>
        <p:nvSpPr>
          <p:cNvPr id="96" name="Rectangle 4"/>
          <p:cNvSpPr/>
          <p:nvPr/>
        </p:nvSpPr>
        <p:spPr>
          <a:xfrm>
            <a:off x="324000" y="5589720"/>
            <a:ext cx="838836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1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ff0000"/>
                </a:solidFill>
                <a:latin typeface="Verdana"/>
              </a:rPr>
              <a:t>Pozn: Každá bezpečnostná zložka pôsobí na základe vlastného záko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Vzdelanie </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ožiadavku ustanoveného vzdelania na prevádzkovanie strážnej služby  spĺňa  osoba,   ktorá má  ukončené úplné stredné vzdelanie alebo úplné stredné odborné vzdelanie. </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ožiadavku ustanoveného vzdelania na prevádzkovanie detektívnej služby a odbornej prípravy a poradenstva spĺňa osoba, ktorá</a:t>
            </a:r>
            <a:endParaRPr b="0" lang="en-US" sz="1900" spc="-1" strike="noStrike">
              <a:solidFill>
                <a:srgbClr val="000000"/>
              </a:solidFill>
              <a:latin typeface="Verdana"/>
            </a:endParaRPr>
          </a:p>
          <a:p>
            <a:pPr marL="46980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	</a:t>
            </a:r>
            <a:r>
              <a:rPr b="0" lang="sk-SK" sz="1900" spc="-1" strike="noStrike">
                <a:solidFill>
                  <a:srgbClr val="cc0000"/>
                </a:solidFill>
                <a:latin typeface="Verdana"/>
              </a:rPr>
              <a:t>a)</a:t>
            </a:r>
            <a:r>
              <a:rPr b="0" lang="sk-SK" sz="1900" spc="-1" strike="noStrike">
                <a:solidFill>
                  <a:srgbClr val="000000"/>
                </a:solidFill>
                <a:latin typeface="Verdana"/>
              </a:rPr>
              <a:t>získala vysokoškolské vzdelanie druhého stupňa v študijnom odbore právo alebo v oblasti bezpečnostných služieb,</a:t>
            </a:r>
            <a:endParaRPr b="0" lang="en-US" sz="1900" spc="-1" strike="noStrike">
              <a:solidFill>
                <a:srgbClr val="000000"/>
              </a:solidFill>
              <a:latin typeface="Verdana"/>
            </a:endParaRPr>
          </a:p>
          <a:p>
            <a:pPr marL="46980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	</a:t>
            </a:r>
            <a:r>
              <a:rPr b="0" lang="sk-SK" sz="1900" spc="-1" strike="noStrike">
                <a:solidFill>
                  <a:srgbClr val="cc0000"/>
                </a:solidFill>
                <a:latin typeface="Verdana"/>
              </a:rPr>
              <a:t>b)</a:t>
            </a:r>
            <a:r>
              <a:rPr b="0" lang="sk-SK" sz="1900" spc="-1" strike="noStrike">
                <a:solidFill>
                  <a:srgbClr val="000000"/>
                </a:solidFill>
                <a:latin typeface="Verdana"/>
              </a:rPr>
              <a:t>je držiteľom osvedčenia o vykonaní kvalifikačnej skúšky alebo</a:t>
            </a:r>
            <a:endParaRPr b="0" lang="en-US" sz="1900" spc="-1" strike="noStrike">
              <a:solidFill>
                <a:srgbClr val="000000"/>
              </a:solidFill>
              <a:latin typeface="Verdana"/>
            </a:endParaRPr>
          </a:p>
          <a:p>
            <a:pPr marL="46980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	</a:t>
            </a:r>
            <a:r>
              <a:rPr b="0" lang="sk-SK" sz="1900" spc="-1" strike="noStrike">
                <a:solidFill>
                  <a:srgbClr val="cc0000"/>
                </a:solidFill>
                <a:latin typeface="Verdana"/>
              </a:rPr>
              <a:t>c)</a:t>
            </a:r>
            <a:r>
              <a:rPr b="0" lang="sk-SK" sz="1900" spc="-1" strike="noStrike">
                <a:solidFill>
                  <a:srgbClr val="000000"/>
                </a:solidFill>
                <a:latin typeface="Verdana"/>
              </a:rPr>
              <a:t>získala vysokoškolské vzdelanie druhého stupňa v inom študijnom odbore ako právo alebo v oblasti bezpečnostných služieb a získala špecializované policajné vzdelanie a vykonávala bezpečnostnú prax v ozbrojenom bezpečnostnom zbore najmenej desať rokov a čas od skončenia vykonávania  tejto praxe nie je dlhší ako päť rokov.</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kúška odbornej spôsobilosti</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3000" spc="-1" strike="noStrike">
                <a:solidFill>
                  <a:srgbClr val="000000"/>
                </a:solidFill>
                <a:latin typeface="Verdana"/>
              </a:rPr>
              <a:t>S</a:t>
            </a:r>
            <a:r>
              <a:rPr b="0" lang="sk-SK" sz="3000" spc="-1" strike="noStrike">
                <a:solidFill>
                  <a:srgbClr val="000000"/>
                </a:solidFill>
                <a:latin typeface="Verdana"/>
              </a:rPr>
              <a:t> – pre osoby poverené výkonom fyzickej ochrany a pátrani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3000" spc="-1" strike="noStrike">
                <a:solidFill>
                  <a:srgbClr val="000000"/>
                </a:solidFill>
                <a:latin typeface="Verdana"/>
              </a:rPr>
              <a:t>P</a:t>
            </a:r>
            <a:r>
              <a:rPr b="0" lang="sk-SK" sz="3000" spc="-1" strike="noStrike">
                <a:solidFill>
                  <a:srgbClr val="000000"/>
                </a:solidFill>
                <a:latin typeface="Verdana"/>
              </a:rPr>
              <a:t> – pre osoby poverené  výkonom  fyzickej  ochrany, pátrania, odbornej prípravy a poradenstva a pre prevádzkovateľov</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kúšobná komisia</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Skúška sa vykonáva pred  trojčlennou komisiou. Predsedom komisie je zástupca ministerstva, ktorý plní úlohy na úseku bezpečnostných služieb a získal vysokoškolské vzdelanie druhého stupňa v študijnom odbore právo alebo v oblasti bezpečnostných služieb alebo v  inom študijnom odbore, ak najmenej desať rokov vykonával bezpečnostnú prax. Jeden člen skúšobnej komisie je zástupca krajského riaditeľstva, ktorý plní úlohy na úseku bezpečnostných služieb. Druhý člen komisie je zástupca okresného riaditeľstva Policajného zboru podľa miesta konania skúšk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kúška odbornej spôsobilosti</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700880"/>
          </a:xfrm>
          <a:prstGeom prst="rect">
            <a:avLst/>
          </a:prstGeom>
          <a:noFill/>
          <a:ln w="0">
            <a:noFill/>
          </a:ln>
        </p:spPr>
        <p:txBody>
          <a:bodyPr anchor="t">
            <a:normAutofit/>
          </a:bodyPr>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kúšku typu S, ani odbornú prípravu, nemusí vykonať  osoba, ktorá má ukončené vzdelanie v študijnom odbore v oblasti </a:t>
            </a:r>
            <a:r>
              <a:rPr b="0" lang="en-US" sz="1900" spc="-1" strike="noStrike">
                <a:solidFill>
                  <a:srgbClr val="cc0000"/>
                </a:solidFill>
                <a:latin typeface="Verdana"/>
              </a:rPr>
              <a:t>bezpečnostných služieb</a:t>
            </a:r>
            <a:r>
              <a:rPr b="0" lang="en-US" sz="1900" spc="-1" strike="noStrike">
                <a:solidFill>
                  <a:srgbClr val="000000"/>
                </a:solidFill>
                <a:latin typeface="Verdana"/>
              </a:rPr>
              <a:t> a vykonávala najmenej desať rokov bezpečnostnú  prax  v ozbrojenom  zbore alebo ozbrojenom bezpečnostnom zbore a čas od skončenia jej činnosti v tomto zbore nie je dlhší ako päť rokov. </a:t>
            </a:r>
            <a:endParaRPr b="0" lang="en-US" sz="19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kúšku typu P, ani odbornú prípravu, nemusí vykonať osoba, ktorá získala vysokoškolské vzdelanie druhého stupňa v študijnom odbore právo alebo v oblasti </a:t>
            </a:r>
            <a:r>
              <a:rPr b="0" lang="en-US" sz="1900" spc="-1" strike="noStrike">
                <a:solidFill>
                  <a:srgbClr val="cc0000"/>
                </a:solidFill>
                <a:latin typeface="Verdana"/>
              </a:rPr>
              <a:t>bezpečnostných služieb</a:t>
            </a:r>
            <a:r>
              <a:rPr b="0" lang="en-US" sz="1900" spc="-1" strike="noStrike">
                <a:solidFill>
                  <a:srgbClr val="000000"/>
                </a:solidFill>
                <a:latin typeface="Verdana"/>
              </a:rPr>
              <a:t> alebo získala vysokoškolské vzdelanie druhého stupňa v inom študijnom odbore ako právo alebo v oblasti bezpečnostných služieb a získala špecializované policajné vzdelanie a táto osoba vykonávala najmenej desať rokov bezpečnostnú prax v ozbrojenom zbore alebo ozbrojenom bezpečnostnom zbore a čas od skončenia jej činnosti v tomto zbore nie je dlhší ako päť rokov.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reukaz </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268880"/>
          </a:xfrm>
          <a:prstGeom prst="rect">
            <a:avLst/>
          </a:prstGeom>
          <a:noFill/>
          <a:ln w="0">
            <a:noFill/>
          </a:ln>
        </p:spPr>
        <p:txBody>
          <a:bodyPr anchor="t">
            <a:normAutofit/>
          </a:bodyPr>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Uchádzačovi, ktorý úspešne vykonal skúšku alebo na základe písomnej žiadosti osobe, ktorá skúšku nemusí vykonať, vydá ministerstvo preukaz typu S alebo typu P, ak sú tieto osoby bezúhonné a spoľahlivé. Platnosť preukazu je desať rokov.</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ukaz je verejná listina. Osoba môže byť súčasne držiteľom len jedného preukazu.  </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a preukaz, ktorý bol stratený, odcudzený, poškodený alebo ktorý obsahuje údaje nezodpovedajúce skutočnosti, vydá ministerstvo duplikát preukazu.</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Na vydanie preukazu po strate platnosti predchádzajúceho preukazu uplynutím času, je potrebné absolvovať odbornú prípravu v skrátenej forme a vykonať skúšku.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Uznávanie odbornej spôsobilosti </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275616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dborná spôsobilosť alebo jej časť, získaná v členskom štáte Európskej únie, v inom zmluvnom štáte dohody o Európskom hospodárskom priestore alebo v Švajčiarskej konfederácii sa uzná, ak žiadateľ doloží doklady o získaní odbornej spôsobilosti a ich preklad do štátneho jazyka vyhotovený tlmočníkom podľa osobitného predpisu. </a:t>
            </a:r>
            <a:endParaRPr b="0" lang="en-US" sz="2100" spc="-1" strike="noStrike">
              <a:solidFill>
                <a:srgbClr val="000000"/>
              </a:solidFill>
              <a:latin typeface="Verdana"/>
            </a:endParaRPr>
          </a:p>
        </p:txBody>
      </p:sp>
      <p:pic>
        <p:nvPicPr>
          <p:cNvPr id="166" name="Picture 5" descr="pic1"/>
          <p:cNvPicPr/>
          <p:nvPr/>
        </p:nvPicPr>
        <p:blipFill>
          <a:blip r:embed="rId1"/>
          <a:stretch/>
        </p:blipFill>
        <p:spPr>
          <a:xfrm>
            <a:off x="5508720" y="3789360"/>
            <a:ext cx="3028680" cy="219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3185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Verdana"/>
              </a:rPr>
              <a:t>Konanie o udelenie licencie na prevádzkovanie bezpečnostnej služby</a:t>
            </a:r>
            <a:endParaRPr b="0" lang="en-US" sz="3200" spc="-1" strike="noStrike">
              <a:solidFill>
                <a:srgbClr val="000000"/>
              </a:solidFill>
              <a:latin typeface="Verdana"/>
            </a:endParaRPr>
          </a:p>
        </p:txBody>
      </p:sp>
      <p:sp>
        <p:nvSpPr>
          <p:cNvPr id="168" name="PlaceHolder 2"/>
          <p:cNvSpPr>
            <a:spLocks noGrp="1"/>
          </p:cNvSpPr>
          <p:nvPr>
            <p:ph/>
          </p:nvPr>
        </p:nvSpPr>
        <p:spPr>
          <a:xfrm>
            <a:off x="566280" y="2707920"/>
            <a:ext cx="8001000" cy="33116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meno, priezvisko, titul, dátum a miesto narodenia, rodné číslo, adresu pobytu a štátne občianstv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bchodné meno a miesto činnosti fyzickej osoby, identifikačné číslo, ak bolo pridelené,</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dmet činnosti,</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miesto prevádzky a ďalších prevádzok, ak ich zriadi,</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dobu ukončenia, ak zamýšľa činnosť vykonávať menej ako desať rokov,</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 </a:t>
            </a:r>
            <a:r>
              <a:rPr b="0" lang="sk-SK" sz="2100" spc="-1" strike="noStrike">
                <a:solidFill>
                  <a:srgbClr val="000000"/>
                </a:solidFill>
                <a:latin typeface="Verdana"/>
              </a:rPr>
              <a:t>prehľad svojich podnikateľských činností.</a:t>
            </a:r>
            <a:endParaRPr b="0" lang="en-US" sz="2100" spc="-1" strike="noStrike">
              <a:solidFill>
                <a:srgbClr val="000000"/>
              </a:solidFill>
              <a:latin typeface="Verdana"/>
            </a:endParaRPr>
          </a:p>
        </p:txBody>
      </p:sp>
      <p:sp>
        <p:nvSpPr>
          <p:cNvPr id="169" name="Text Box 4"/>
          <p:cNvSpPr/>
          <p:nvPr/>
        </p:nvSpPr>
        <p:spPr>
          <a:xfrm>
            <a:off x="468360" y="1844640"/>
            <a:ext cx="7848720" cy="123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Verdana"/>
              </a:rPr>
              <a:t>Fyzická osoba v žiadosti o udelenie licencie na prevádzkovanie bezpečnostnej služby uvedie:</a:t>
            </a:r>
            <a:endParaRPr b="0" lang="en-US" sz="2400" spc="-1" strike="noStrike">
              <a:solidFill>
                <a:srgbClr val="000000"/>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Verdana"/>
              </a:rPr>
              <a:t>Konanie o udelení licencie na prevádzkovanie bezpečnostnej služby</a:t>
            </a:r>
            <a:endParaRPr b="0" lang="en-US" sz="3200" spc="-1" strike="noStrike">
              <a:solidFill>
                <a:srgbClr val="000000"/>
              </a:solidFill>
              <a:latin typeface="Verdana"/>
            </a:endParaRPr>
          </a:p>
        </p:txBody>
      </p:sp>
      <p:sp>
        <p:nvSpPr>
          <p:cNvPr id="171" name="PlaceHolder 2"/>
          <p:cNvSpPr>
            <a:spLocks noGrp="1"/>
          </p:cNvSpPr>
          <p:nvPr>
            <p:ph/>
          </p:nvPr>
        </p:nvSpPr>
        <p:spPr>
          <a:xfrm>
            <a:off x="566280" y="2421000"/>
            <a:ext cx="8001000" cy="4248000"/>
          </a:xfrm>
          <a:prstGeom prst="rect">
            <a:avLst/>
          </a:prstGeom>
          <a:solidFill>
            <a:srgbClr val="ffffff"/>
          </a:solid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y a čestné vyhlásenia preukazujúce jej bezúhonnosť a spoľahlivosť,</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kársky posudok nie starší ako tri mesiace,</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preukazujúci jej vzdelanie a preukaz typu P,</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čestné vyhlásenie o tom, že nie je držiteľom iného oprávnenia podnikať, </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označujúci orgán, ktorý vykonáva jej sociálne poistenie,</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o pridelení identifikačného čísla, ak je pridelené,</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dpis z obchodného registra, ak je v ňom osoba zapísaná, nie starší ako tri mesiace, a výpis zo živnostenského registra alebo z iného registra nie starší ako tri mesiace, prípadne iný doklad preukazujúci prehľad jej podnikateľských činností,</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o zaplatení správneho poplatku,</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is a farebné vyobrazenie rovnošaty, nášiviek, znaku alebo iného vonkajšieho označenia, ak sa majú používať pri poskytovaní bezpečnostnej služby.</a:t>
            </a:r>
            <a:endParaRPr b="0" lang="en-US" sz="1800" spc="-1" strike="noStrike">
              <a:solidFill>
                <a:srgbClr val="000000"/>
              </a:solidFill>
              <a:latin typeface="Verdana"/>
            </a:endParaRPr>
          </a:p>
        </p:txBody>
      </p:sp>
      <p:sp>
        <p:nvSpPr>
          <p:cNvPr id="172" name="Text Box 4"/>
          <p:cNvSpPr/>
          <p:nvPr/>
        </p:nvSpPr>
        <p:spPr>
          <a:xfrm>
            <a:off x="684360" y="177336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Fyzická osoba k žiadosti o  udelenie licencie na prevádzkovanie bezpečnostnej služby pripojí:</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Verdana"/>
              </a:rPr>
              <a:t>Konanie o udelení licencie na prevádzkovanie bezpečnostnej služby</a:t>
            </a:r>
            <a:endParaRPr b="0" lang="en-US" sz="3200" spc="-1" strike="noStrike">
              <a:solidFill>
                <a:srgbClr val="000000"/>
              </a:solidFill>
              <a:latin typeface="Verdana"/>
            </a:endParaRPr>
          </a:p>
        </p:txBody>
      </p:sp>
      <p:sp>
        <p:nvSpPr>
          <p:cNvPr id="174" name="PlaceHolder 2"/>
          <p:cNvSpPr>
            <a:spLocks noGrp="1"/>
          </p:cNvSpPr>
          <p:nvPr>
            <p:ph/>
          </p:nvPr>
        </p:nvSpPr>
        <p:spPr>
          <a:xfrm>
            <a:off x="566280" y="2707920"/>
            <a:ext cx="8001000" cy="33116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obchodné meno a sídlo, prípadne adresu miesta činnosti organizačnej zložky podniku alebo podniku zahraničnej osoby,</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meno, priezvisko, titul, dátum a miesto narodenia, rodné číslo, adresu pobytu a štátne občianstvo fyzickej osoby alebo fyzických osôb, ktoré sú štatutárnym orgánom právnickej osoby alebo jeho členmi, s uvedením spôsobu, akým konajú v  jej men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identifikačné číslo, ak je pridelené,</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predmet činnosti,</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miesto prevádzky a ďalších prevádzok, ak ich zriadi,</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dobu ukončenia, ak  zamýšľa činnosť vykonávať menej ako desať rokov,</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prehľad svojich podnikateľských činností.</a:t>
            </a:r>
            <a:endParaRPr b="0" lang="en-US" sz="1700" spc="-1" strike="noStrike">
              <a:solidFill>
                <a:srgbClr val="000000"/>
              </a:solidFill>
              <a:latin typeface="Verdana"/>
            </a:endParaRPr>
          </a:p>
        </p:txBody>
      </p:sp>
      <p:sp>
        <p:nvSpPr>
          <p:cNvPr id="175" name="Text Box 4"/>
          <p:cNvSpPr/>
          <p:nvPr/>
        </p:nvSpPr>
        <p:spPr>
          <a:xfrm>
            <a:off x="611280" y="1916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Právnická osoba v žiadosti o udelenie licencie na prevádzkovanie bezpečnostnej služby uved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Verdana"/>
              </a:rPr>
              <a:t>Konanie o udelení licencie na prevádzkovanie bezpečnostnej služby</a:t>
            </a:r>
            <a:endParaRPr b="0" lang="en-US" sz="3200" spc="-1" strike="noStrike">
              <a:solidFill>
                <a:srgbClr val="000000"/>
              </a:solidFill>
              <a:latin typeface="Verdana"/>
            </a:endParaRPr>
          </a:p>
        </p:txBody>
      </p:sp>
      <p:sp>
        <p:nvSpPr>
          <p:cNvPr id="177" name="PlaceHolder 2"/>
          <p:cNvSpPr>
            <a:spLocks noGrp="1"/>
          </p:cNvSpPr>
          <p:nvPr>
            <p:ph/>
          </p:nvPr>
        </p:nvSpPr>
        <p:spPr>
          <a:xfrm>
            <a:off x="566280" y="2420640"/>
            <a:ext cx="8001000" cy="359892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y a čestné vyhlásenia preukazujúce bezúhonnosť a spoľahlivosť, týkajúce sa fyzickej osoby alebo fyzických osôb, ktoré sú štatutárnym orgánom právnickej osoby alebo jeho členmi, </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mluvu alebo listinu o založení právnickej osoby s osvedčením  pravosti podpisov; </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 osôb zapísaných v obchodnom registri výpis z obchodného registra nie starší ako tri mesiace,</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o pridelení identifikačného čísla, ak je pridelené,</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klad o zaplatení správneho poplatku,</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čestné vyhlásenie o tom, že  nie je držiteľom iného oprávnenia podnikať, </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is a farebné vyobrazenie rovnošaty, nášiviek, znaku alebo iného vonkajšieho označenia, ak sa majú používať pri poskytovaní bezpečnostnej služby.</a:t>
            </a:r>
            <a:endParaRPr b="0" lang="en-US" sz="1800" spc="-1" strike="noStrike">
              <a:solidFill>
                <a:srgbClr val="000000"/>
              </a:solidFill>
              <a:latin typeface="Verdana"/>
            </a:endParaRPr>
          </a:p>
        </p:txBody>
      </p:sp>
      <p:sp>
        <p:nvSpPr>
          <p:cNvPr id="178" name="Text Box 4"/>
          <p:cNvSpPr/>
          <p:nvPr/>
        </p:nvSpPr>
        <p:spPr>
          <a:xfrm>
            <a:off x="684360" y="177336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Právnická osoba k žiadosti o  udelenie licencie na prevádzkovanie bezpečnostnej služby pripojí:</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000000"/>
                </a:solidFill>
                <a:latin typeface="Verdana"/>
              </a:rPr>
              <a:t>Konanie o udelení licencie</a:t>
            </a:r>
            <a:endParaRPr b="0" lang="en-US" sz="36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Žiadosť o udelenie licencie na prevádzkovanie bezpečnostnej služby sa podáva osobne krajskému riaditeľstvu.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Fyzická osoba  alebo zástupca právnickej  osoby pri podaní žiadosti o  udelenie licencie na prevádzkovanie bezpečnostnej služby preukáže svoju totožnosť  občianskym preukazom alebo iným dokladom preukazujúcim totožnosť.</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Krajské riaditeľstvo si k žiadosti o  udelenie licencie na prevádzkovanie bezpečnostnej služby vyžiada vyjadrenie ministerstva k záujmu vnútorného poriadku a bezpečnosti.</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Ak krajské riaditeľstvo nemôže rozhodnúť o žiadosti o  udelenie licencie na prevádzkovanie bezpečnostnej služby v lehote podľa všeobecného predpisu o správnom konaní, môže túto lehotu predĺžiť riaditeľ krajského riaditeľstva, najviac však o 60 dní.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Krajské riaditeľstvo do 30 dní odo dňa nadobudnutia právoplatnosti rozhodnutia o udelení licencie na prevádzkovanie bezpečnostnej služby vydá licenciu na prevádzkovanie bezpečnostnej služby, ktorou prevádzkovateľ preukazuje oprávnenie prevádzkovať v nej uvedené činnosti.</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000000"/>
                </a:solidFill>
                <a:latin typeface="Verdana"/>
              </a:rPr>
              <a:t>Konanie o udelení licencie</a:t>
            </a:r>
            <a:endParaRPr b="0" lang="en-US" sz="3600" spc="-1" strike="noStrike">
              <a:solidFill>
                <a:srgbClr val="000000"/>
              </a:solidFill>
              <a:latin typeface="Verdana"/>
            </a:endParaRPr>
          </a:p>
        </p:txBody>
      </p:sp>
      <p:sp>
        <p:nvSpPr>
          <p:cNvPr id="182" name="PlaceHolder 2"/>
          <p:cNvSpPr>
            <a:spLocks noGrp="1"/>
          </p:cNvSpPr>
          <p:nvPr>
            <p:ph/>
          </p:nvPr>
        </p:nvSpPr>
        <p:spPr>
          <a:xfrm>
            <a:off x="566280" y="1752120"/>
            <a:ext cx="8001000" cy="26132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revádzkovateľ je povinný začať vykonávať aspoň jednu povolenú činnosť do jedného roka odo dňa nadobudnutia právoplatnosti rozhodnutia o udelení licencie na prevádzkovanie bezpečnostnej služb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Zánik oprávnenia prevádzkovať bezpečnostnú službu </a:t>
            </a:r>
            <a:endParaRPr b="0" lang="en-US" sz="34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právnenie prevádzkovať bezpečnostnú službu zaniká</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smrťou prevádzkovateľa, ktorý bol fyzickou osobou,</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rušením právnickej osoby,</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uplynutím času, na ktorý bola licencia na prevádzkovanie bezpečnostnej služby udelená,</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rozhodnutím krajského riaditeľstva o odňatí licencie aleb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ísomným oznámením o ukončení prevádzkovania bezpečnostnej služby a odovzdaním licencie na prevádzkovanie bezpečnostnej služby prevádzkovateľo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Správa o činnosti bezpečnostných služieb</a:t>
            </a:r>
            <a:endParaRPr b="0" lang="en-US" sz="3400" spc="-1" strike="noStrike">
              <a:solidFill>
                <a:srgbClr val="000000"/>
              </a:solidFill>
              <a:latin typeface="Verdana"/>
            </a:endParaRPr>
          </a:p>
        </p:txBody>
      </p:sp>
      <p:sp>
        <p:nvSpPr>
          <p:cNvPr id="186" name="PlaceHolder 2"/>
          <p:cNvSpPr>
            <a:spLocks noGrp="1"/>
          </p:cNvSpPr>
          <p:nvPr>
            <p:ph/>
          </p:nvPr>
        </p:nvSpPr>
        <p:spPr>
          <a:xfrm>
            <a:off x="566280" y="1752120"/>
            <a:ext cx="8001000" cy="1389240"/>
          </a:xfrm>
          <a:prstGeom prst="rect">
            <a:avLst/>
          </a:prstGeom>
          <a:noFill/>
          <a:ln w="0">
            <a:noFill/>
          </a:ln>
        </p:spPr>
        <p:txBody>
          <a:bodyPr anchor="t">
            <a:normAutofit/>
          </a:bodyPr>
          <a:p>
            <a:pPr marL="469800" indent="-469800" algn="just">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revádzkovateľ je povinný do 31. januára kalendárneho  roka predložiť ministerstvu písomnú správu o činnosti bezpečnostnej služby za uplynulý kalendárny rok. </a:t>
            </a:r>
            <a:endParaRPr b="0" lang="en-US" sz="2600" spc="-1" strike="noStrike">
              <a:solidFill>
                <a:srgbClr val="000000"/>
              </a:solidFill>
              <a:latin typeface="Verdana"/>
            </a:endParaRPr>
          </a:p>
        </p:txBody>
      </p:sp>
      <p:sp>
        <p:nvSpPr>
          <p:cNvPr id="187" name="Text Box 4"/>
          <p:cNvSpPr/>
          <p:nvPr/>
        </p:nvSpPr>
        <p:spPr>
          <a:xfrm>
            <a:off x="395280" y="3357720"/>
            <a:ext cx="8209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cc0000"/>
                </a:solidFill>
                <a:latin typeface="Verdana"/>
              </a:rPr>
              <a:t>Správa o činnosti bezpečnostnej služby</a:t>
            </a:r>
            <a:r>
              <a:rPr b="0" lang="sk-SK" sz="1800" spc="-1" strike="noStrike">
                <a:solidFill>
                  <a:srgbClr val="000000"/>
                </a:solidFill>
                <a:latin typeface="Verdana"/>
              </a:rPr>
              <a:t> musí obsahovať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a) </a:t>
            </a:r>
            <a:r>
              <a:rPr b="1" lang="sk-SK" sz="1800" spc="-1" strike="noStrike">
                <a:solidFill>
                  <a:srgbClr val="000000"/>
                </a:solidFill>
                <a:latin typeface="Verdana"/>
              </a:rPr>
              <a:t>označenie prevádzkovateľa</a:t>
            </a:r>
            <a:r>
              <a:rPr b="0" lang="sk-SK" sz="1800" spc="-1" strike="noStrike">
                <a:solidFill>
                  <a:srgbClr val="000000"/>
                </a:solidFill>
                <a:latin typeface="Verdana"/>
              </a:rPr>
              <a:t>, v ktorom je uvedené číslo licencie na prevádzkovanie bezpečnostnej služby, meno, priezvisko, adresa pobytu a miesto činnosti, obchodné meno fyzickej osoby alebo obchodné meno a sídlo právnickej osoby,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b) </a:t>
            </a:r>
            <a:r>
              <a:rPr b="1" lang="sk-SK" sz="1800" spc="-1" strike="noStrike">
                <a:solidFill>
                  <a:srgbClr val="000000"/>
                </a:solidFill>
                <a:latin typeface="Verdana"/>
              </a:rPr>
              <a:t>štatistické údaje</a:t>
            </a:r>
            <a:r>
              <a:rPr b="0" lang="sk-SK"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c) </a:t>
            </a:r>
            <a:r>
              <a:rPr b="1" lang="sk-SK" sz="1800" spc="-1" strike="noStrike">
                <a:solidFill>
                  <a:srgbClr val="000000"/>
                </a:solidFill>
                <a:latin typeface="Verdana"/>
              </a:rPr>
              <a:t>opisnú časť</a:t>
            </a:r>
            <a:r>
              <a:rPr b="0" lang="sk-SK"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d) </a:t>
            </a:r>
            <a:r>
              <a:rPr b="1" lang="sk-SK" sz="1800" spc="-1" strike="noStrike">
                <a:solidFill>
                  <a:srgbClr val="000000"/>
                </a:solidFill>
                <a:latin typeface="Verdana"/>
              </a:rPr>
              <a:t>dátum  vypracovania  správy,  odtlačok pečiatky a podpis prevádzkovateľa</a:t>
            </a:r>
            <a:r>
              <a:rPr b="0" lang="sk-SK" sz="1800" spc="-1" strike="noStrike">
                <a:solidFill>
                  <a:srgbClr val="000000"/>
                </a:solidFill>
                <a:latin typeface="Verdana"/>
              </a:rPr>
              <a:t> alebo štatutárneho orgánu prevádzkovateľ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Opisná časť </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Opisnú časť tvoria prípady:</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oužitia strelnej zbrane zamestnancom  a proti zamestnancovi bezpečnostnej služby pri výkone FOPOdPaP,</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usmrtenia zamestnanca, alebo usmrtenia osoby zamestnancom bezp. služby pri  výkone FOPOdPaP,</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ublíženia na zdraví zamestnancovi, alebo ublíženia na zdraví osobe zamestnancom bezp. služby pri výkone FOPOdPaP, </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zistenia, alebo spáchania trestného  činu  zamestnancom  bezp.  služby  pri výkone FOch,P,OdP a P,</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obmedzenia osobnej slobody osoby pristihnutej pri trestnom čin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uzatvorenia zmluvy o poskytovaní bezpečnostnej služby.</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FOPOdPaP = pri výkone fyzickej ochrany, pátrania, odbornej prípravy a poradenstv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Opisná časť</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isná  časť  musí  obsahovať  najmä  údaje  v rozsahu </a:t>
            </a:r>
            <a:r>
              <a:rPr b="0" lang="en-US" sz="2100" spc="-1" strike="noStrike">
                <a:solidFill>
                  <a:srgbClr val="336699"/>
                </a:solidFill>
                <a:latin typeface="Verdana"/>
              </a:rPr>
              <a:t>meno, priezvisko, dátum narodenia a adresa pobytu o osobe, ktorá vykonala úkon</a:t>
            </a:r>
            <a:r>
              <a:rPr b="0" lang="en-US" sz="2100" spc="-1" strike="noStrike">
                <a:solidFill>
                  <a:srgbClr val="000000"/>
                </a:solidFill>
                <a:latin typeface="Verdana"/>
              </a:rPr>
              <a:t>,  </a:t>
            </a:r>
            <a:r>
              <a:rPr b="0" lang="en-US" sz="2100" spc="-1" strike="noStrike">
                <a:solidFill>
                  <a:srgbClr val="336699"/>
                </a:solidFill>
                <a:latin typeface="Verdana"/>
              </a:rPr>
              <a:t>použila zbraň,  spôsobila zranenie alebo usmrtenie,</a:t>
            </a:r>
            <a:r>
              <a:rPr b="0" lang="en-US" sz="2100" spc="-1" strike="noStrike">
                <a:solidFill>
                  <a:srgbClr val="000000"/>
                </a:solidFill>
                <a:latin typeface="Verdana"/>
              </a:rPr>
              <a:t> </a:t>
            </a:r>
            <a:r>
              <a:rPr b="0" lang="en-US" sz="2100" spc="-1" strike="noStrike">
                <a:solidFill>
                  <a:srgbClr val="8dd7ae"/>
                </a:solidFill>
                <a:latin typeface="Verdana"/>
              </a:rPr>
              <a:t>údaje o dĺžke pracovnej neschopnosti</a:t>
            </a:r>
            <a:r>
              <a:rPr b="0" lang="en-US" sz="2100" spc="-1" strike="noStrike">
                <a:solidFill>
                  <a:srgbClr val="000000"/>
                </a:solidFill>
                <a:latin typeface="Verdana"/>
              </a:rPr>
              <a:t>, údaje o osobe, ktorá spôsobila škodu, výška spôsobenej škody, údaje o osobe, ktorá spáchala trestný čin alebo ktorá zistila trestný čin, uvedenie útvaru Policajného zboru, alebo iného orgánu, ktorému bola vec hlásená, údaje o odovzdanej osobe, údaje o zmluvách o poskytovaní bezpečnostnej služby, s uvedením jej účastníkov, dňa uzavretia zmluvy, doby, na ktorú bola uzavretá, predmetu zmluvy o poskytovaní bezpečnostnej služb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Vzťah strážnej služby a detektívnej služby</a:t>
            </a:r>
            <a:endParaRPr b="0" lang="en-US" sz="34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evádzkovateľ nesmie uzavrieť zmluvu o poskytovaní detektívnej služby, ak pátranie smeruje proti osobe, ktorej už  poskytuje  strážnu  službu.  Ak sa až  po  uzavretí zmluvy  zistí, že pátranie smeruje proti osobe, ktorej už poskytuje strážnu službu, nesmie v pátraní  pokračovať; prevádzkovateľ je povinný oznámiť osobe, s ktorou uzavrel zmluvu o poskytovaní detektívnej služby, že nemôže pokračovať v poskytovaní detektívnej služby, s uvedením dôvodu.  Rovnako nesmie prevádzkovateľ uzavrieť zmluvu o poskytovaní strážnej služby s osobou, proti ktorej smeruje pátranie na základe skôr uzavretej zmluvy o poskytovaní detektívnej služb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Výkon fyzickej ochrany, pátrania, odbornej prípravy a poradenstva </a:t>
            </a:r>
            <a:endParaRPr b="0" lang="en-US" sz="34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Fyzickú  ochranu alebo pátranie môže vykonávať  len osoba, ktorá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dosiahla vek 19 rokov,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spôsobilá na právne úkony v plnom rozsahu,</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bezúhonn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spoľahliv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zdravotne spôsobil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držiteľom preukazu odbornej spôsobilosti. </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Odbornú prípravu a poradenstvo môže vykonávať len osoba, ktor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a) dosiahla vek 20 rokov,</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b) je spôsobilá na právne úkony v plnom rozsahu,</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c) je bezúhonn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d) je spoľahliv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e) je zdravotne spôsobilá,</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f) je držiteľom preukazu odbornej spôsobilosti typu P,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g) spĺňa podmienku vzdelani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Výkon fyzickej ochrany, pátrania, odbornej prípravy a poradenstva</a:t>
            </a:r>
            <a:endParaRPr b="0" lang="en-US" sz="34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dbornú prípravu v rámci akreditácie môže vykonávať len osoba, ktorá spĺňa predch. podmienky a  </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spĺňa podmienku vzdelania a má päťročnú prax v odbore právo alebo v odbore bezpečnostné služby, ak má vykonávať lektorskú činnosť z právnych predmetov,</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získala vysokoškolské vzdelanie na lekárskej fakulte alebo je zdravotnícky inštruktor Slovenského červeného kríža, ak má vykonávať lektorskú činnosť z poskytovania prvej pomoci,</a:t>
            </a:r>
            <a:endParaRPr b="0" lang="en-US" sz="2100" spc="-1" strike="noStrike">
              <a:solidFill>
                <a:srgbClr val="000000"/>
              </a:solidFill>
              <a:latin typeface="Verdana"/>
            </a:endParaRPr>
          </a:p>
          <a:p>
            <a:pPr marL="469800" indent="-469800" algn="just">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má ukončené ucelené štúdium v študijnom odbore požiarnej ochrany s  päťročnou praxou v tomto odbore alebo je technik požiarnej ochrany s desaťročnou praxou, ak má vykonávať lektorskú činnosť z požiarnej príprav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Verdana"/>
              </a:rPr>
              <a:t>Osoby poverené výkonom fyzickej ochrany sú oprávnené</a:t>
            </a:r>
            <a:r>
              <a:rPr b="0" lang="sk-SK" sz="3800" spc="-1" strike="noStrike">
                <a:solidFill>
                  <a:srgbClr val="000000"/>
                </a:solidFill>
                <a:latin typeface="Verdana"/>
              </a:rPr>
              <a:t> </a:t>
            </a: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8001000" cy="4268880"/>
          </a:xfrm>
          <a:prstGeom prst="rect">
            <a:avLst/>
          </a:prstGeom>
          <a:solidFill>
            <a:srgbClr val="ffffff"/>
          </a:solidFill>
          <a:ln w="0">
            <a:noFill/>
          </a:ln>
        </p:spPr>
        <p:txBody>
          <a:bodyPr anchor="t">
            <a:normAutofit/>
          </a:bodyPr>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vedčiť  sa zrakom, hmatom alebo technickými prostriedkami,  či  ten,  kto  vstupuje  do chráneného objektu alebo na chránené miesto alebo z neho vystupuje, nemá pri sebe alebo na sebe predmety pochádzajúce z protiprávnej činnosti súvisiacej s chráneným objektom, chráneným miestom alebo chránenou osobou alebo nemá pri sebe alebo na sebe predmety, ktorými by mohol spáchať protiprávnu činnosť a tieto mu odobrať,</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akázať  vstup  do chráneného objektu alebo  na chránené miesto nepovolaným osobám,</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akázať vstup  do chráneného objektu alebo na chráneného miesto osobám, ktoré majú pri sebe zbraň,</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sť evidenciu o vstupe alebo výstupe osôb a dopravných prostriedkov do chráneného objektu alebo z chráneného objektu alebo do chráneného miesta, alebo z chráneného miesta; na  tento účel je oprávnený vyžadovať  preukázanie totožnosti,</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aznamenávať technickými prostriedkami vstup alebo výstup osôb a dopravných prostriedkov do chráneného objektu alebo na chránené miesto alebo z chráneného objektu alebo z chráneného miest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Štruktúra zákonov o bezpečnostných zložkách</a:t>
            </a:r>
            <a:endParaRPr b="0" lang="en-US" sz="3400" spc="-1" strike="noStrike">
              <a:solidFill>
                <a:srgbClr val="000000"/>
              </a:solidFill>
              <a:latin typeface="Verdana"/>
            </a:endParaRPr>
          </a:p>
        </p:txBody>
      </p:sp>
      <p:sp>
        <p:nvSpPr>
          <p:cNvPr id="99" name="PlaceHolder 2"/>
          <p:cNvSpPr>
            <a:spLocks noGrp="1"/>
          </p:cNvSpPr>
          <p:nvPr>
            <p:ph/>
          </p:nvPr>
        </p:nvSpPr>
        <p:spPr>
          <a:xfrm>
            <a:off x="457200" y="1773000"/>
            <a:ext cx="8229600" cy="4392360"/>
          </a:xfrm>
          <a:prstGeom prst="rect">
            <a:avLst/>
          </a:prstGeom>
          <a:solidFill>
            <a:srgbClr val="ffffff">
              <a:alpha val="76000"/>
            </a:srgbClr>
          </a:solid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úvodné ustanovenie, upravujúce názov a hlavné charakteristické rysy príslušného  zboru, resp. služby,</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ymedzenie základných úloh a zásady organizačnej štruktúry a riadenie zboru,</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ymedzenie povinností, oprávnení a prostriedkov používaných príslušníkmi, prostredníctvom ktorých sú plnené úlohy,</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ukazovanie príslušnosti k zboru,</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olupráca s inými orgánmi, s obcami a inými právnickými a fyzickými osobami,</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chodné a záverečné ustanoveni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Verdana"/>
              </a:rPr>
              <a:t>Osoby poverené výkonom fyzickej</a:t>
            </a:r>
            <a:br>
              <a:rPr sz="2800"/>
            </a:br>
            <a:r>
              <a:rPr b="0" lang="sk-SK" sz="2800" spc="-1" strike="noStrike">
                <a:solidFill>
                  <a:srgbClr val="000000"/>
                </a:solidFill>
                <a:latin typeface="Verdana"/>
              </a:rPr>
              <a:t>ochrany sú oprávnené</a:t>
            </a:r>
            <a:r>
              <a:rPr b="0" lang="sk-SK" sz="3400" spc="-1" strike="noStrike">
                <a:solidFill>
                  <a:srgbClr val="000000"/>
                </a:solidFill>
                <a:latin typeface="Verdana"/>
              </a:rPr>
              <a:t> </a:t>
            </a:r>
            <a:endParaRPr b="0" lang="en-US" sz="3400" spc="-1" strike="noStrike">
              <a:solidFill>
                <a:srgbClr val="000000"/>
              </a:solidFill>
              <a:latin typeface="Verdana"/>
            </a:endParaRPr>
          </a:p>
        </p:txBody>
      </p:sp>
      <p:sp>
        <p:nvSpPr>
          <p:cNvPr id="201" name="PlaceHolder 2"/>
          <p:cNvSpPr>
            <a:spLocks noGrp="1"/>
          </p:cNvSpPr>
          <p:nvPr>
            <p:ph/>
          </p:nvPr>
        </p:nvSpPr>
        <p:spPr>
          <a:xfrm>
            <a:off x="566280" y="1752120"/>
            <a:ext cx="8001000" cy="4845240"/>
          </a:xfrm>
          <a:prstGeom prst="rect">
            <a:avLst/>
          </a:prstGeom>
          <a:solidFill>
            <a:srgbClr val="ffffff"/>
          </a:solidFill>
          <a:ln w="0">
            <a:noFill/>
          </a:ln>
        </p:spPr>
        <p:txBody>
          <a:bodyPr anchor="t">
            <a:normAutofit/>
          </a:bodyPr>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yžadovať preukázanie totožnosti u osoby, ktorá je pristihnutá pri páchaní priestupku alebo trestného činu, ktorý súvisí s výkonom fyzickej ochrany alebo bezprostredne po spáchaní takéhoto priestupku alebo trestného činu,</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 súvislosti s výkonom  fyzickej ochrany vyžadovať preukázanie totožnosti osoby, ktorá bola pristihnutá pri neoprávnenom vstupe do, alebo výstupe z chráneného objektu (miesta), </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vedčiť sa, či ten, kto vstupuje do chráneného objektu alebo na chránené miesto s dopr. prostriedkom alebo z neho vystupuje nemá v dopr. prostriedku alebo na dopr. prostriedku predmety alebo zvieratá pochádzajúce z protiprávnej činnosti súvisiacej s chránenou osobou alebo s chráneným objektom alebo s chráneným miestom alebo predmety, ktorými by mohol spáchať protiprávnu činnosť a tieto mu odobrať,</a:t>
            </a:r>
            <a:endParaRPr b="0" lang="en-US" sz="1700" spc="-1" strike="noStrike">
              <a:solidFill>
                <a:srgbClr val="000000"/>
              </a:solidFill>
              <a:latin typeface="Verdana"/>
            </a:endParaRPr>
          </a:p>
          <a:p>
            <a:pPr marL="469800" indent="-46980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a čas nevyhnutný, do príchodu policajta, Vojenskej polície alebo obecnej polície, predviesť na strážne stanovisko osobu, ktorá v súvislosti s výkonom fyzickej ochrany odmieta alebo nemôže hodnoverne preukázať svoju totožnosť a bola pristihnutá pri páchaní priestupku alebo bezprostredne po spáchaní priestupku, alebo  ktorá bola pristihnutá pri neoprávnenom  vstupe, alebo výstupe do a z chráneného objektu  alebo na a z chráneného miesta.</a:t>
            </a: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ovinnosť príslušníka SBS</a:t>
            </a:r>
            <a:endParaRPr b="0" lang="en-US" sz="3800" spc="-1" strike="noStrike">
              <a:solidFill>
                <a:srgbClr val="000000"/>
              </a:solidFill>
              <a:latin typeface="Verdana"/>
            </a:endParaRPr>
          </a:p>
        </p:txBody>
      </p:sp>
      <p:sp>
        <p:nvSpPr>
          <p:cNvPr id="203" name="PlaceHolder 2"/>
          <p:cNvSpPr>
            <a:spLocks noGrp="1"/>
          </p:cNvSpPr>
          <p:nvPr>
            <p:ph/>
          </p:nvPr>
        </p:nvSpPr>
        <p:spPr>
          <a:xfrm>
            <a:off x="323640" y="4292280"/>
            <a:ext cx="8243640" cy="17254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a) chrániť stopy pred zničením, poškodením alebo odstránením,</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b) zamedziť prístupu nepovolaných osôb na takéto miesto,</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c) zabrániť vnášaniu alebo vynášaniu predmetov z takéhoto miesta,</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d) neodkladne ohlásiť udalosť najbližšiemu útvaru PZ,</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e) zamedziť ďalším škodlivým následkom udalosti.</a:t>
            </a:r>
            <a:endParaRPr b="0" lang="en-US" sz="1800" spc="-1" strike="noStrike">
              <a:solidFill>
                <a:srgbClr val="000000"/>
              </a:solidFill>
              <a:latin typeface="Verdana"/>
            </a:endParaRPr>
          </a:p>
        </p:txBody>
      </p:sp>
      <p:sp>
        <p:nvSpPr>
          <p:cNvPr id="204" name="Text Box 4"/>
          <p:cNvSpPr/>
          <p:nvPr/>
        </p:nvSpPr>
        <p:spPr>
          <a:xfrm>
            <a:off x="324000" y="1773360"/>
            <a:ext cx="8280360" cy="2287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Verdana"/>
              </a:rPr>
              <a:t>Na mieste, o ktorom sa predpokladá, že bol na ňom spáchaný trestný čin, došlo  k dopravnej nehode, prevádzkovej nehode (havárii),  k pracovnému úrazu alebo k inej mimoriadnej udalosti, na mieste, kde bola usmrtená osoba alebo došlo k ublíženiu na zdraví, ako aj na mieste, kde bola použitá strelná zbraň alebo vecný bezpečnostný prostriedok je osoba poverená  výkonom fyzickej ochrany, pátrania, odbornou prípravou a poradenstvom </a:t>
            </a:r>
            <a:r>
              <a:rPr b="0" lang="sk-SK" sz="2000" spc="-1" strike="noStrike">
                <a:solidFill>
                  <a:srgbClr val="cc0000"/>
                </a:solidFill>
                <a:latin typeface="Verdana"/>
              </a:rPr>
              <a:t>povinná počínať si tak, aby žiadnym spôsobom nesťažila vyšetrovanie</a:t>
            </a:r>
            <a:r>
              <a:rPr b="0" lang="sk-SK" sz="2000" spc="-1" strike="noStrike">
                <a:solidFill>
                  <a:srgbClr val="000000"/>
                </a:solidFill>
                <a:latin typeface="Verdana"/>
              </a:rPr>
              <a:t>, najmä</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ovinnosti príslušníka SBS</a:t>
            </a:r>
            <a:endParaRPr b="0" lang="en-US" sz="38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soba poverená výkonom fyzickej ochrany, pátrania, odbornou prípravou a poradenstvom, nesmie pri  plnení  úloh  používať </a:t>
            </a:r>
            <a:r>
              <a:rPr b="0" lang="sk-SK" sz="2100" spc="-1" strike="noStrike">
                <a:solidFill>
                  <a:srgbClr val="cc0000"/>
                </a:solidFill>
                <a:latin typeface="Verdana"/>
              </a:rPr>
              <a:t>žiadny spôsob maskovania tváre.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vádzkovateľ </a:t>
            </a:r>
            <a:r>
              <a:rPr b="0" lang="sk-SK" sz="2100" spc="-1" strike="noStrike">
                <a:solidFill>
                  <a:srgbClr val="cc0000"/>
                </a:solidFill>
                <a:latin typeface="Verdana"/>
              </a:rPr>
              <a:t>nesmie používať vozidlá so zvláštnymi výstražnými znameniami.</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Fyzická ochrana obchôdzkou alebo strážením alebo pátranie monitorovaním činnosti osoby v uzavretom priestore alebo v uzavretom mieste sa musí vykonávať podľa vopred vypracovaného </a:t>
            </a:r>
            <a:r>
              <a:rPr b="0" lang="sk-SK" sz="2100" spc="-1" strike="noStrike">
                <a:solidFill>
                  <a:srgbClr val="336699"/>
                </a:solidFill>
                <a:latin typeface="Verdana"/>
              </a:rPr>
              <a:t>plánu služieb</a:t>
            </a:r>
            <a:r>
              <a:rPr b="0" lang="sk-SK" sz="2100" spc="-1" strike="noStrike">
                <a:solidFill>
                  <a:srgbClr val="000000"/>
                </a:solidFill>
                <a:latin typeface="Verdana"/>
              </a:rPr>
              <a:t>.</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soba poverená výkonom fyzickej  ochrany alebo pátrania nesmie mimo času, keď  plní úlohy  fyzickej ochrany, pátrania a odbornej prípravy, viditeľne  nosiť vecné bezpečnostné prostriedk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Identifikačný preukaz </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vádzkovateľ je povinný vydať osobe poverenej výkonom fyzickej ochrany, pátrania, odbornej prípravy a poradenstva  identifikačný preukaz podľa druhu činnosti, ktorý musí obsahovať</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bchodné meno prevádzkovateľa,</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značenie, či ide o strážnu službu, detektívnu službu, odbornú prípravu a poradenstvo,</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číslo licencie na prevádzkovanie bezpečnostnej služby prevádzkovateľa,</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meno a priezvisko, titul držiteľa identifikačného preukazu,</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fotografiu držiteľa identifikačného preukazu,</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číslo identifikačného preukazu, </a:t>
            </a:r>
            <a:endParaRPr b="0" lang="en-US" sz="2100" spc="-1" strike="noStrike">
              <a:solidFill>
                <a:srgbClr val="000000"/>
              </a:solidFill>
              <a:latin typeface="Verdana"/>
            </a:endParaRPr>
          </a:p>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dtlačok pečiatky a podpis prevádzkovateľ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Identifikačný preukaz</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osoba poverená  výkonom fyzickej ochrany na verejne prístupnom mieste je povinná mať viditeľne umiestnený identifikačný preukaz na ľavej strane odevu v oblasti pŕs,</a:t>
            </a:r>
            <a:endParaRPr b="0" lang="en-US" sz="3000" spc="-1" strike="noStrike">
              <a:solidFill>
                <a:srgbClr val="000000"/>
              </a:solidFill>
              <a:latin typeface="Verdana"/>
            </a:endParaRPr>
          </a:p>
          <a:p>
            <a:pPr marL="469800" indent="-469800" algn="just">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osoba poverená výkonom pátrania alebo osoba poverená odbornou prípravou a poradenstvom  musí mať  identifikačný preukaz  pri seb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reukaz je príslušník SBS</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povinný na  požiadanie predložiť orgánu dozoru pri výkone štátneho dozoru, orgánu kontroly pri výkone kontroly alebo policajtovi, príslušníkov Vojenskej polície alebo príslušníkovi Železničnej polície pri výkone kontroly činnost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Rovnošaty</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ovnošaty a ich súčasti používané pri poskytovaní bezpečnostnej služby nesmú byť zameniteľné s rovnošatami príslušníkov ozbrojených síl Slovenskej republiky, ozbrojených bezpečnostných zborov,  ozbrojených zborov a iných osôb, ktoré plnia úlohy verejnej správy. Rovnošata musí byť označená znakom tak, aby  bolo zrejmé,  že ide  o bezpečnost-nú službu.</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dnostné označenie zhodné s hodnostným označením príslušníkov ozbrojených síl Slovenskej republiky,  ozbrojených bezpečnostných zborov, ozbrojených zborov a iných osôb, ktoré plnia úlohy verejnej správy, je neprípustné.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Povinnosti prevádzkovateľa strážnej služby</a:t>
            </a:r>
            <a:endParaRPr b="0" lang="en-US" sz="3400" spc="-1" strike="noStrike">
              <a:solidFill>
                <a:srgbClr val="000000"/>
              </a:solidFill>
              <a:latin typeface="Verdana"/>
            </a:endParaRPr>
          </a:p>
        </p:txBody>
      </p:sp>
      <p:sp>
        <p:nvSpPr>
          <p:cNvPr id="216" name="PlaceHolder 2"/>
          <p:cNvSpPr>
            <a:spLocks noGrp="1"/>
          </p:cNvSpPr>
          <p:nvPr>
            <p:ph/>
          </p:nvPr>
        </p:nvSpPr>
        <p:spPr>
          <a:xfrm>
            <a:off x="566280" y="1752480"/>
            <a:ext cx="8001000" cy="4772160"/>
          </a:xfrm>
          <a:prstGeom prst="rect">
            <a:avLst/>
          </a:prstGeom>
          <a:solidFill>
            <a:srgbClr val="ffffff"/>
          </a:solidFill>
          <a:ln w="0">
            <a:noFill/>
          </a:ln>
        </p:spPr>
        <p:txBody>
          <a:bodyPr anchor="t">
            <a:normAutofit/>
          </a:bodyPr>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niť povinnosti ustanovené zákonom o SBS, inými všeobecne záväznými právnymi predpismi alebo uložené rozhodnutiami a opatreniami ministerstva alebo krajského riaditeľstva,</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bať na ochranu osobnosti, ochranu osobných údajov v informačných systémoch, dobrú povesť právnických osôb a ochranu obchodného tajomstva, </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sť samostatnú evidenciu osôb poverených výkonom fyzickej ochrany,</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sť   evidenciu   služieb   podľa   jednotlivých  chránených  objektov,</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sť evidenciu zásahov,</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dkladne oznámiť miestne  príslušnému útvaru PZ vykonanie každého zásahu pri výkone fyzickej ochrany, pri  ktorom bola  použitá strelná zbraň alebo vecný bezpečnostný prostriedok,  alebo pri  ktorom došlo k zraneniu alebo k usmrteniu osoby alebo k obmedzeniu osobnej slobody osoby,</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zabezpečiť spracovanie záznamu o zásahu, záznam o zásahu vyhotoví a vlastnoručne podpíše zasahujúca osoba,</a:t>
            </a:r>
            <a:endParaRPr b="0" lang="en-US" sz="1800" spc="-1" strike="noStrike">
              <a:solidFill>
                <a:srgbClr val="000000"/>
              </a:solidFill>
              <a:latin typeface="Verdana"/>
            </a:endParaRPr>
          </a:p>
          <a:p>
            <a:pPr marL="469800" indent="-469800" algn="just">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sť </a:t>
            </a:r>
            <a:r>
              <a:rPr b="0" lang="en-US" sz="1800" spc="-1" strike="noStrike">
                <a:solidFill>
                  <a:srgbClr val="336699"/>
                </a:solidFill>
                <a:latin typeface="Verdana"/>
              </a:rPr>
              <a:t>inšpekčnú knihu dozoru</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revádzkovateľ strážnej služby</a:t>
            </a: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je povinný presvedčiť sa, či ten, s kým hodlá uzatvoriť zmluvu o poskytovaní strážnej služby, je oprávnený užívať majetok, ktorý má byť predmetom ochrany; na tento účel je oprávnený požadovať od osoby, ktorej má poskytovať strážnu službu, príslušné doklady,</a:t>
            </a:r>
            <a:endParaRPr b="0" lang="en-US" sz="2600" spc="-1" strike="noStrike">
              <a:solidFill>
                <a:srgbClr val="000000"/>
              </a:solidFill>
              <a:latin typeface="Verdana"/>
            </a:endParaRPr>
          </a:p>
          <a:p>
            <a:pPr marL="469800" indent="-469800" algn="just">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nesmie poskytovať pri ochrane osoby, ochrane majetku alebo zabezpečovaní poriadku podporu a ochranu konaniu, ktorým sú porušované všeobecne záväzné právne  predpis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revádzkovateľ strážnej služby</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Verdana"/>
              </a:rPr>
              <a:t>ktorý  prevádzkuje zariadenie poplachového  systému alebo časť takéhoto zariadenia, vyhodnocuje narušenie  chráneného objektu alebo chráneného miesta, alebo ktorý prevádzkuje iný systém slúžiaci  na ochranu majetku a osoby, </a:t>
            </a:r>
            <a:r>
              <a:rPr b="0" lang="sk-SK" sz="2000" spc="-1" strike="noStrike">
                <a:solidFill>
                  <a:srgbClr val="336699"/>
                </a:solidFill>
                <a:latin typeface="Verdana"/>
              </a:rPr>
              <a:t>je  povinný zabezpečiť okamžité preverenie signálu dostatočným počtom odborne spôsobilých osôb poverených výkonom  fyzickej  ochrany.</a:t>
            </a:r>
            <a:r>
              <a:rPr b="0" lang="sk-SK" sz="2000" spc="-1" strike="noStrike">
                <a:solidFill>
                  <a:srgbClr val="000000"/>
                </a:solidFill>
                <a:latin typeface="Verdana"/>
              </a:rPr>
              <a:t> V  prípade  zistenia  podozrenia z trestnej  činnosti vykoná opatrenia na  obmedzenie  osobnej  slobody  osoby,  zamedzenie  vstupu  nepovolaných  osôb do chráneného objektu alebo na chránené miesto a vec neodkladne oznámi  miestne príslušnému útvaru Policajného zboru. </a:t>
            </a:r>
            <a:endParaRPr b="0" lang="en-US" sz="2000" spc="-1" strike="noStrike">
              <a:solidFill>
                <a:srgbClr val="000000"/>
              </a:solidFill>
              <a:latin typeface="Verdana"/>
            </a:endParaRPr>
          </a:p>
          <a:p>
            <a:pPr marL="469800" indent="-469800" algn="just">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Verdana"/>
              </a:rPr>
              <a:t>Motorové vozidlá používané na preverenie signálu musia byť označené čitateľným nápisom „ZÁSAHOVÉ  VOZIDLO</a:t>
            </a:r>
            <a:r>
              <a:rPr b="0" lang="ja-JP" sz="2000" spc="-1" strike="noStrike">
                <a:solidFill>
                  <a:srgbClr val="000000"/>
                </a:solidFill>
                <a:latin typeface="Arial"/>
              </a:rPr>
              <a:t>“</a:t>
            </a:r>
            <a:r>
              <a:rPr b="0" lang="sk-SK" sz="2000" spc="-1" strike="noStrike">
                <a:solidFill>
                  <a:srgbClr val="000000"/>
                </a:solidFill>
                <a:latin typeface="Verdana"/>
              </a:rPr>
              <a:t>.</a:t>
            </a:r>
            <a:r>
              <a:rPr b="0" lang="sk-SK" sz="1900" spc="-1" strike="noStrike">
                <a:solidFill>
                  <a:srgbClr val="000000"/>
                </a:solidFill>
                <a:latin typeface="Verdana"/>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636640"/>
            <a:ext cx="8001000" cy="121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000000"/>
                </a:solidFill>
                <a:latin typeface="Verdana"/>
              </a:rPr>
              <a:t>Súkromné bezpečnostné služby</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Prevádzkovateľ strážnej služby</a:t>
            </a: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je povinný zabezpečiť prepravu majetku a osoby vhodným motorovým vozidlom a ochranu majetku a osoby</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najmenej dvomi osobami poverenými výkonom fyzickej ochrany, ak prepravuje majetok v hodnote od 1 000 000 Sk do 5 000 000 Sk,</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najmenej dvomi osobami poverenými výkonom fyzickej ochrany a doprovodným vozidlom pred vozidlom vykonávajúcim prepravu s najmenej dvomi osobami poverenými výkonom fyzickej ochrany, ak prepravuje majetok v hodnote od 5 000 000 Sk do 10 000 000 Sk,</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najmenej dvomi osobami poverenými výkonom fyzickej ochrany a doprovodným vozidlom pred vozidlom vykonávajúcim prepravu s najmenej dvomi osobami poverenými výkonom fyzickej ochrany a doprovodným vozidlom za vozidlom vykonávajúcim prepravu s najmenej dvomi osobami poverenými výkonom fyzickej ochrany, ak  prepravuje majetok  v hodnote nad 10 000 000 Sk alebo ak prevádzkovateľ strážnej služby hodnotu prepravovaného majetku nepozná.</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Evidencia</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2252880"/>
          </a:xfrm>
          <a:prstGeom prst="rect">
            <a:avLst/>
          </a:prstGeom>
          <a:noFill/>
          <a:ln w="0">
            <a:noFill/>
          </a:ln>
        </p:spPr>
        <p:txBody>
          <a:bodyPr anchor="t">
            <a:normAutofit/>
          </a:bodyPr>
          <a:p>
            <a:pPr marL="469800" indent="-469800" algn="just">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idencie, záznam o zásahu a inšpekčná kniha dozoru sa vedú počas celej doby prevádzkovania strážnej služby a uschovávajú sa v sídle alebo v mieste činnosti prevádzkovateľa päť nasledujúcich rokov po vykonaní posledného zápisu.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Obmedzenie činnosti strážnej služby</a:t>
            </a:r>
            <a:endParaRPr b="0" lang="en-US" sz="34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Strážnu službu je zakázané poskytovať spôsobom, ktorý by mohol vzbudzovať dôvodnú obavu, že bude zneužitá na násilné ovplyvňovanie politických sporov, kolektívneho vyjednávania medzi zamestnancami  a zamestnávateľmi,  ako aj  na akékoľvek potláčanie práv a slobôd. </a:t>
            </a:r>
            <a:endParaRPr b="0" lang="en-US" sz="2600" spc="-1" strike="noStrike">
              <a:solidFill>
                <a:srgbClr val="000000"/>
              </a:solidFill>
              <a:latin typeface="Verdana"/>
            </a:endParaRPr>
          </a:p>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Ochranu osoby možno vykonávať  len s jej výslovným súhlasom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Povinnosti prevádzkovateľa detektívnej služby</a:t>
            </a:r>
            <a:endParaRPr b="0" lang="en-US" sz="3400" spc="-1" strike="noStrike">
              <a:solidFill>
                <a:srgbClr val="000000"/>
              </a:solidFill>
              <a:latin typeface="Verdana"/>
            </a:endParaRPr>
          </a:p>
        </p:txBody>
      </p:sp>
      <p:sp>
        <p:nvSpPr>
          <p:cNvPr id="228" name="PlaceHolder 2"/>
          <p:cNvSpPr>
            <a:spLocks noGrp="1"/>
          </p:cNvSpPr>
          <p:nvPr>
            <p:ph/>
          </p:nvPr>
        </p:nvSpPr>
        <p:spPr>
          <a:xfrm>
            <a:off x="566280" y="1752120"/>
            <a:ext cx="8001000" cy="4845240"/>
          </a:xfrm>
          <a:prstGeom prst="rect">
            <a:avLst/>
          </a:prstGeom>
          <a:noFill/>
          <a:ln w="0">
            <a:noFill/>
          </a:ln>
        </p:spPr>
        <p:txBody>
          <a:bodyPr anchor="t">
            <a:normAutofit/>
          </a:bodyPr>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niť povinnosti ustanovené zákonom o SBS, inými všeobecne záväznými právnymi predpismi alebo uložené rozhodnutiami a opatreniami ministerstva alebo krajského riaditeľstva,</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bať na ochranu osobnosti, ochranu osobných údajov v informačných systémoch, dobrú povesť právnických osôb a ochranu obchodného tajomstva, </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sť samostatnú evidenciu osôb poverených výkonom pátrania,</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sť evidenciu zásahov,</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odkladne oznámiť miestne príslušnému útvaru PZ vykonanie každého zásahu pri výkone pátrania, pri ktorom bola  použitá  strelná zbraň alebo vecný bezpečnostný prostriedok, alebo pri  ktorom došlo k zraneniu alebo k usmrteniu osoby alebo k obmedzeniu osobnej slobody osoby,</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abezpečiť  spracovanie záznamu o  zásahu,</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záznam o zásahu vyhotoví a vlastnoručne podpíše zasahujúca osoba,</a:t>
            </a:r>
            <a:endParaRPr b="0" lang="en-US" sz="1700" spc="-1" strike="noStrike">
              <a:solidFill>
                <a:srgbClr val="000000"/>
              </a:solidFill>
              <a:latin typeface="Verdana"/>
            </a:endParaRPr>
          </a:p>
          <a:p>
            <a:pPr marL="469800" indent="-469800" algn="just">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sť inšpekčnú knihu dozoru,</a:t>
            </a:r>
            <a:endParaRPr b="0" lang="en-US" sz="1700" spc="-1" strike="noStrike">
              <a:solidFill>
                <a:srgbClr val="000000"/>
              </a:solidFill>
              <a:latin typeface="Verdana"/>
            </a:endParaRPr>
          </a:p>
          <a:p>
            <a:pPr marL="469800" indent="-469800" algn="just">
              <a:lnSpc>
                <a:spcPct val="80000"/>
              </a:lnSpc>
              <a:spcBef>
                <a:spcPts val="2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sť evidenciu služieb, ak vykonáva monitorovanie činnosti osoby v uzavretom priestore alebo na uzavretom mieste.</a:t>
            </a:r>
            <a:r>
              <a:rPr b="0" lang="en-US" sz="1100" spc="-1" strike="noStrike">
                <a:solidFill>
                  <a:srgbClr val="000000"/>
                </a:solidFill>
                <a:latin typeface="Verdana"/>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Obmedzenie činnosti detektívnej služby</a:t>
            </a:r>
            <a:endParaRPr b="0" lang="en-US" sz="34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tektívnu službu nemožno vykonávať spôsobom, ktorým sa zasahuje do osobnostných alebo iných práv.</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smie sa pátrať po politickom, odborárskom alebo náboženskom presvedčení osoby alebo po jej príslušnosti k určitej rase, etnickej skupine alebo národnosti.</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smie sa pátrať po zdravotnom stave osoby, jej sexuálnych stykoch a sklonoch, iba ak ide o skutočnosti, ktoré by mohli viesť k rozvodu manželstva a zmluvu uzavrel jeden z manželov alebo keď ide o sexuálne styky a sklony, ktoré sú protiprávne alebo môžu viesť k protiprávnemu konaniu.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Záverečná správa o poskytnutí detektívnej služby</a:t>
            </a:r>
            <a:endParaRPr b="0" lang="en-US" sz="34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Prevádzkovateľ  detektívnej služby je povinný pri každej zmluve o poskytovaní detektívnej služby spracovať písomnú záverečnú správu o poskytnutí detektívnej služby,</a:t>
            </a:r>
            <a:endParaRPr b="0" lang="en-US" sz="2600" spc="-1" strike="noStrike">
              <a:solidFill>
                <a:srgbClr val="000000"/>
              </a:solidFill>
              <a:latin typeface="Verdana"/>
            </a:endParaRPr>
          </a:p>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000000"/>
                </a:solidFill>
                <a:latin typeface="Verdana"/>
              </a:rPr>
              <a:t>originál je povinný odovzdať druhému účastníkovi zmluvy o poskytovaní detektívnej služby  a kópiu uschovávať najmenej päť rokov od skončenia plnenia zmluvy.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Náležitosti záverečnej správy</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identifikačné údaje účastníkov zmluvy o poskytovaní detektívnej služby a dátum jej uzavret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redmet zmluvy o poskytovaní detektívnej služby,</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identifikačné údaje osôb, ktoré detektívnu služby poskytovali,</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čas a skutočný priebeh plnenia detektívnej služby,</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výsledok  plnenia  detektívnej  služby  a  jeho  porovnanie  s  dohodnutým  predmetom  zmluvy o poskytovaní detektívnej služby,</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náklady a výška odplaty za poskytnutie detektívnej služb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Zaobchádzanie so získanými informáciami</a:t>
            </a:r>
            <a:endParaRPr b="0" lang="en-US" sz="34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evádzkovateľ detektívnej služby môže informácie získané v súvislosti s poskytovaním detektívnej  služby oznámiť iba osobe, ktorá  uzavrela zmluvu o poskytovaní detektívnej služby  alebo osobe ňou písomne splnomocnenej. Obdobne je povinný zaobchádzať aj s materiálom získaným v súvislosti s poskytovaním detektívnej služb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Povinnosti prevádzkovateľa odbornej prípravy a poradenstva</a:t>
            </a:r>
            <a:endParaRPr b="0" lang="en-US" sz="34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plniť povinnosti ustanovené zákonom o SBS, inými všeobecne záväznými právnymi predpismi alebo uložené rozhodnutiami a opatreniami ministerstva alebo krajského riaditeľstv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dbať na ochranu osobnosti, ochranu osobných údajov v  informačných systémoch, dobrú povesť právnických osôb a ochranu obchodného tajomstva,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o poskytovaní odbornej prípravy a poradenstva spracovať informáciu,</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viesť samostatnú evidenciu osôb poverených výkonom odbornej prípravy a poradenstv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viesť inšpekčnú knihu dozoru.</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Štátny dozor a kontrola</a:t>
            </a:r>
            <a:endParaRPr b="0" lang="en-US" sz="3800" spc="-1" strike="noStrike">
              <a:solidFill>
                <a:srgbClr val="000000"/>
              </a:solidFill>
              <a:latin typeface="Verdana"/>
            </a:endParaRPr>
          </a:p>
        </p:txBody>
      </p:sp>
      <p:sp>
        <p:nvSpPr>
          <p:cNvPr id="240" name="PlaceHolder 2"/>
          <p:cNvSpPr>
            <a:spLocks noGrp="1"/>
          </p:cNvSpPr>
          <p:nvPr>
            <p:ph/>
          </p:nvPr>
        </p:nvSpPr>
        <p:spPr>
          <a:xfrm>
            <a:off x="566280" y="1752120"/>
            <a:ext cx="8001000" cy="31892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Štátny dozor  a kontrolu nad dodržiavaním povinností ustanovených zákonom o SBS alebo na jeho základe fyzickým osobám a právnickým osobám vykonáva ministerstvo.</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Kontrolu nad dodržiavaním povinností ustanovených zákonom o SBS alebo na jeho základe  fyzickým osobám a právnickým osobám vo svojej pôsobnosti vykonáva krajské riaditeľstvo.</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Verdana"/>
              </a:rPr>
              <a:t>Kontrolu činnosti je oprávnený vykonávať každý policajt. </a:t>
            </a:r>
            <a:endParaRPr b="0" lang="en-US" sz="2100" spc="-1" strike="noStrike">
              <a:solidFill>
                <a:srgbClr val="000000"/>
              </a:solidFill>
              <a:latin typeface="Verdana"/>
            </a:endParaRPr>
          </a:p>
        </p:txBody>
      </p:sp>
      <p:pic>
        <p:nvPicPr>
          <p:cNvPr id="241" name="Picture 4" descr="logo1"/>
          <p:cNvPicPr/>
          <p:nvPr/>
        </p:nvPicPr>
        <p:blipFill>
          <a:blip r:embed="rId1"/>
          <a:stretch/>
        </p:blipFill>
        <p:spPr>
          <a:xfrm>
            <a:off x="6156360" y="4653000"/>
            <a:ext cx="2448000" cy="188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400" spc="-1" strike="noStrike">
                <a:solidFill>
                  <a:srgbClr val="000000"/>
                </a:solidFill>
                <a:latin typeface="Verdana"/>
              </a:rPr>
              <a:t>Súkromné bezpečnostné služby – Právne normy</a:t>
            </a:r>
            <a:endParaRPr b="0" lang="en-US" sz="3400" spc="-1" strike="noStrike">
              <a:solidFill>
                <a:srgbClr val="000000"/>
              </a:solidFill>
              <a:latin typeface="Verdana"/>
            </a:endParaRPr>
          </a:p>
        </p:txBody>
      </p:sp>
      <p:sp>
        <p:nvSpPr>
          <p:cNvPr id="102" name="PlaceHolder 2"/>
          <p:cNvSpPr>
            <a:spLocks noGrp="1"/>
          </p:cNvSpPr>
          <p:nvPr>
            <p:ph/>
          </p:nvPr>
        </p:nvSpPr>
        <p:spPr>
          <a:xfrm>
            <a:off x="566280" y="1752120"/>
            <a:ext cx="8037720" cy="4413240"/>
          </a:xfrm>
          <a:prstGeom prst="rect">
            <a:avLst/>
          </a:prstGeom>
          <a:noFill/>
          <a:ln w="0">
            <a:noFill/>
          </a:ln>
        </p:spPr>
        <p:txBody>
          <a:bodyPr anchor="t">
            <a:normAutofit/>
          </a:bodyPr>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ákon č. 473/2005</a:t>
            </a:r>
            <a:r>
              <a:rPr b="0" lang="en-US" sz="2000" spc="-1" strike="noStrike">
                <a:solidFill>
                  <a:srgbClr val="000000"/>
                </a:solidFill>
                <a:latin typeface="Verdana"/>
              </a:rPr>
              <a:t> Z. z. o poskytovaní služieb v oblasti súkromnej bezpečnosti a o zmene a doplnení niektorých zákonov (zákon o súkromnej bezpečnosti) </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yhláška Ministerstva vnútra Slovenskej republiky č. 634/2005</a:t>
            </a:r>
            <a:r>
              <a:rPr b="0" lang="en-US" sz="2000" spc="-1" strike="noStrike">
                <a:solidFill>
                  <a:srgbClr val="000000"/>
                </a:solidFill>
                <a:latin typeface="Verdana"/>
              </a:rPr>
              <a:t> Z. z., ktorou sa vykonávajú niektoré ustanovenia zákona č. 473/2005 Z. z. o poskytovaní služieb v oblasti súkromnej bezpečnosti a o zmene a doplnení niektorých zákonov (zákon o súkromnej bezpečnosti) </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yhláška Ministerstva zdravotníctva Slovenskej republiky č. 33/2006</a:t>
            </a:r>
            <a:r>
              <a:rPr b="0" lang="en-US" sz="2000" spc="-1" strike="noStrike">
                <a:solidFill>
                  <a:srgbClr val="000000"/>
                </a:solidFill>
                <a:latin typeface="Verdana"/>
              </a:rPr>
              <a:t> Z. z. o podrobnostiach posudzovania zdravotnej spôsobilosti osôb na poskytovanie služieb v oblasti súkromnej bezpečnosti súkromnými bezpečnostnými službami</a:t>
            </a:r>
            <a:endParaRPr b="0" lang="en-US" sz="2000" spc="-1" strike="noStrike">
              <a:solidFill>
                <a:srgbClr val="000000"/>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ákon č.330/2007</a:t>
            </a:r>
            <a:r>
              <a:rPr b="0" lang="en-US" sz="2000" spc="-1" strike="noStrike">
                <a:solidFill>
                  <a:srgbClr val="000000"/>
                </a:solidFill>
                <a:latin typeface="Verdana"/>
              </a:rPr>
              <a:t> Z. z.,  o registri trestov a o zmene a doplnení niektorých zákonov v znení neskorších predpisov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Štatistické údaje</a:t>
            </a: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V súčasnosti pôsobí v oblasti súkromných bezpečnostných služieb na Slovensku  24 880 osôb (podľa údajov z 31.12.2009), čo je pokles oproti predchádzajúcemu roku o 1 066 osôb. Z toho je 23 045 strážnikov (poverených výkonom fyzickej ochrany), 1 154 detektívov (poverených výkonom pátrania), 39 osôb poverených výkonom poradenstva a 223 osôb poverených výkonom odbornej prípravy. Zostatok sú administratívni zamestnanci. Len 2 613 osôb z celkového počtu osôb pôsobiacich v uvedenej oblasti vykonáva túto činnosť so strelnou zbraňou. Ani raz ale v roku 2009 strelnú zbraň nepoužil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rPr>
              <a:t>Počet prevádzkovateľov bezpečnostných služieb, vlastných ochrán a technických služieb spolu na území SR je 3 075.</a:t>
            </a:r>
            <a:endParaRPr b="0" lang="en-US" sz="19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700" spc="-1" strike="noStrike">
                <a:solidFill>
                  <a:srgbClr val="000000"/>
                </a:solidFill>
                <a:latin typeface="Verdana"/>
              </a:rPr>
              <a:t>Len do 31.12.2005 bolo vydaných 75 000 preukazov odbornej spôsobilosti</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618920" y="2276640"/>
            <a:ext cx="583236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Ďakujem za pozornosť</a:t>
            </a:r>
            <a:endParaRPr b="0" lang="en-US" sz="3800" spc="-1" strike="noStrike">
              <a:solidFill>
                <a:srgbClr val="000000"/>
              </a:solidFill>
              <a:latin typeface="Verdana"/>
            </a:endParaRPr>
          </a:p>
        </p:txBody>
      </p:sp>
      <p:pic>
        <p:nvPicPr>
          <p:cNvPr id="245" name="Picture 4" descr="Schránka01"/>
          <p:cNvPicPr/>
          <p:nvPr/>
        </p:nvPicPr>
        <p:blipFill>
          <a:blip r:embed="rId1"/>
          <a:stretch/>
        </p:blipFill>
        <p:spPr>
          <a:xfrm>
            <a:off x="3132000" y="3357720"/>
            <a:ext cx="2880000" cy="24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úkromné bezpečnostné služby</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37720" cy="4052880"/>
          </a:xfrm>
          <a:prstGeom prst="rect">
            <a:avLst/>
          </a:prstGeom>
          <a:noFill/>
          <a:ln w="0">
            <a:noFill/>
          </a:ln>
        </p:spPr>
        <p:txBody>
          <a:bodyPr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ákon NR SR č. 473/2005 Z. z. o poskytovaní služieb v oblasti súkromnej bezpečnosti a o zmene a doplnení niektorých zákonov (zákon o súkromnej bezpečnosti) upravuje: </a:t>
            </a:r>
            <a:endParaRPr b="0" lang="en-US" sz="2400" spc="-1" strike="noStrike">
              <a:solidFill>
                <a:srgbClr val="000000"/>
              </a:solidFill>
              <a:latin typeface="Verdana"/>
            </a:endParaRPr>
          </a:p>
          <a:p>
            <a:pPr marL="469800" indent="-469800" algn="just">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kytovanie služieb v oblasti súkromnej bezpečnosti,</a:t>
            </a:r>
            <a:endParaRPr b="0" lang="en-US" sz="2400" spc="-1" strike="noStrike">
              <a:solidFill>
                <a:srgbClr val="000000"/>
              </a:solidFill>
              <a:latin typeface="Verdana"/>
            </a:endParaRPr>
          </a:p>
          <a:p>
            <a:pPr marL="469800" indent="-469800" algn="just">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ýkon štátneho dozoru Ministerstvom vnútra Slovenskej republiky a kontroly Policajným zborom v oblasti súkromnej bezpečnosti.</a:t>
            </a:r>
            <a:endParaRPr b="0" lang="en-US" sz="2400" spc="-1" strike="noStrike">
              <a:solidFill>
                <a:srgbClr val="000000"/>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Verdana"/>
              </a:rPr>
              <a:t>Súkromná bezpečnosť </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prevádzkuje sa ako </a:t>
            </a:r>
            <a:endParaRPr b="0" lang="en-US" sz="3000" spc="-1" strike="noStrike">
              <a:solidFill>
                <a:srgbClr val="000000"/>
              </a:solidFill>
              <a:latin typeface="Verdana"/>
            </a:endParaRPr>
          </a:p>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súkromná bezpečnostná služba (bezpečnostná služba) alebo ako </a:t>
            </a:r>
            <a:endParaRPr b="0" lang="en-US" sz="3000" spc="-1" strike="noStrike">
              <a:solidFill>
                <a:srgbClr val="000000"/>
              </a:solidFill>
              <a:latin typeface="Verdana"/>
            </a:endParaRPr>
          </a:p>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000" spc="-1" strike="noStrike">
                <a:solidFill>
                  <a:srgbClr val="000000"/>
                </a:solidFill>
                <a:latin typeface="Verdana"/>
              </a:rPr>
              <a:t>technická služba na ochranu majetku a osoby (technická služba). </a:t>
            </a:r>
            <a:endParaRPr b="0" lang="en-US" sz="3000" spc="-1" strike="noStrike">
              <a:solidFill>
                <a:srgbClr val="000000"/>
              </a:solidFill>
              <a:latin typeface="Verdana"/>
            </a:endParaRPr>
          </a:p>
        </p:txBody>
      </p:sp>
      <p:pic>
        <p:nvPicPr>
          <p:cNvPr id="107" name="Picture 4" descr="aristos"/>
          <p:cNvPicPr/>
          <p:nvPr/>
        </p:nvPicPr>
        <p:blipFill>
          <a:blip r:embed="rId1"/>
          <a:stretch/>
        </p:blipFill>
        <p:spPr>
          <a:xfrm>
            <a:off x="7164360" y="4581360"/>
            <a:ext cx="1428840" cy="1419480"/>
          </a:xfrm>
          <a:prstGeom prst="rect">
            <a:avLst/>
          </a:prstGeom>
          <a:ln w="0">
            <a:noFill/>
          </a:ln>
        </p:spPr>
      </p:pic>
      <p:pic>
        <p:nvPicPr>
          <p:cNvPr id="108" name="Picture 6" descr="SBS - Protect"/>
          <p:cNvPicPr/>
          <p:nvPr/>
        </p:nvPicPr>
        <p:blipFill>
          <a:blip r:embed="rId2"/>
          <a:stretch/>
        </p:blipFill>
        <p:spPr>
          <a:xfrm>
            <a:off x="5292720" y="4797360"/>
            <a:ext cx="1866960" cy="1257480"/>
          </a:xfrm>
          <a:prstGeom prst="rect">
            <a:avLst/>
          </a:prstGeom>
          <a:ln w="0">
            <a:noFill/>
          </a:ln>
        </p:spPr>
      </p:pic>
      <p:pic>
        <p:nvPicPr>
          <p:cNvPr id="109" name="Picture 8" descr="sbs"/>
          <p:cNvPicPr/>
          <p:nvPr/>
        </p:nvPicPr>
        <p:blipFill>
          <a:blip r:embed="rId3"/>
          <a:stretch/>
        </p:blipFill>
        <p:spPr>
          <a:xfrm>
            <a:off x="3492360" y="4508640"/>
            <a:ext cx="1657440" cy="11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13:52:32Z</dcterms:created>
  <dc:creator>Ing. Andrej Veľas</dc:creator>
  <dc:description/>
  <dc:language>en-US</dc:language>
  <cp:lastModifiedBy>Roman Petrla</cp:lastModifiedBy>
  <cp:lastPrinted>2011-06-07T15:02:41Z</cp:lastPrinted>
  <dcterms:modified xsi:type="dcterms:W3CDTF">2011-06-07T15:02:46Z</dcterms:modified>
  <cp:revision>38</cp:revision>
  <dc:subject/>
  <dc:title>Súkromné bezpečnostné služby</dc:title>
</cp:coreProperties>
</file>