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6B6A-427A-4073-814C-D68E5CF221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6D19-95F3-4629-95F3-5F12F585177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atematick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konom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temat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v ekonomii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stanti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dělení podle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konom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matemat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ůvod přejmenování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yla klasick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leno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- modely, což je vhodné pro inženýrské stu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ozpor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zev matematická ekonomi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 světě a u ná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e světě je to pojem velmi často užívaný: stovky titulů s tímto názve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nás kromě Allena a současných skript n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166840" y="4995720"/>
            <a:ext cx="884160" cy="1605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3889440" y="4995720"/>
            <a:ext cx="565200" cy="1605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2516040" y="5383080"/>
            <a:ext cx="534960" cy="152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3965400" y="5308560"/>
            <a:ext cx="684360" cy="2271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337-284E-4D4A-B652-CD155FFB279B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324-85E1-4C9D-AF09-73277F76B10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972F-3AAF-43C4-95F9-188A942F1E5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0E87-3432-4916-AAA0-AE090EC4D881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A30C-2FBF-47DE-9CEC-A1A4353A519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atematick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konom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temat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v ekonomii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stanti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dělení podle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konom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matemat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ůvod přejmenování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yla klasick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leno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- modely, což je vhodné pro inženýrské stu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ozpor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zev matematická ekonomi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 světě a u ná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e světě je to pojem velmi často užívaný: stovky titulů s tímto názve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nás kromě Allena a současných skript n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166840" y="4995720"/>
            <a:ext cx="884160" cy="1605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3889440" y="4995720"/>
            <a:ext cx="565200" cy="1605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16040" y="5383080"/>
            <a:ext cx="534960" cy="152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3965400" y="5308560"/>
            <a:ext cx="684360" cy="22716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E9B-BBFA-4120-B347-2C93423E83A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8B7-DBE4-4662-917A-9A47E1E1BD3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D0A1-AEDD-4951-AC33-618E8CEC7D3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38E-A4FE-4CC8-8871-BA98DAB49F0B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B8F0-EBA2-49A8-BE04-CB7AA96B5CB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71A-645E-4EDA-BCB9-6A4005D51273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BBE-70C9-400C-8208-CE3B0E47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591-855C-411E-BEC3-9067251E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78-FA6C-4859-B0CA-11FF8789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71F-0380-4433-9FC6-465CF7E7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722-44D9-4FB2-A0EF-DB1031B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039-9DE1-4541-BA13-A746635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B05-8EF2-455F-ABFF-1C4FF53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45D-98AF-4EF2-9294-175ADB6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DA8-3F97-40E3-B7EC-94396B7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12E-B1CC-4B81-89D3-8EDA054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B58-7A05-4BA3-ABE7-222AFD1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F0A-306B-4681-BCCC-5FC42E2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C0F-F99F-47BC-9827-33A04230ACD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3A0-1593-4B01-AD0B-ABE9AA683E8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14240" y="2571840"/>
            <a:ext cx="82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tematický základ diskrétních dynamických modelů v ekonomii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erenční rovnice jako nástroj pro modelování diskrétních makroekonomických dynamických procesů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Obdélník 6"/>
          <p:cNvSpPr/>
          <p:nvPr/>
        </p:nvSpPr>
        <p:spPr>
          <a:xfrm>
            <a:off x="2357280" y="5500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náška č.5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" name="Object 14"/>
          <p:cNvGraphicFramePr/>
          <p:nvPr/>
        </p:nvGraphicFramePr>
        <p:xfrm>
          <a:off x="7885080" y="5732640"/>
          <a:ext cx="10987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5732640"/>
                    <a:ext cx="10987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28440" y="2000160"/>
            <a:ext cx="7692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é diference tvoří posloup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řetí di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 diferencí můžeme zjistit předpis pro n-tý člen posloupnos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D7AD-FADC-4C6A-BA82-975632D976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6786720" y="1928880"/>
          <a:ext cx="204768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6720" y="1928880"/>
                    <a:ext cx="20476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3"/>
          <p:cNvGraphicFramePr/>
          <p:nvPr/>
        </p:nvGraphicFramePr>
        <p:xfrm>
          <a:off x="3857760" y="3357720"/>
          <a:ext cx="318456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3357720"/>
                    <a:ext cx="3184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4357800" y="5429160"/>
          <a:ext cx="440820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5429160"/>
                    <a:ext cx="4408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9D8-C005-4FFD-83BD-084BF833E93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bdélník 6"/>
          <p:cNvSpPr/>
          <p:nvPr/>
        </p:nvSpPr>
        <p:spPr>
          <a:xfrm>
            <a:off x="928800" y="192888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ak jako v diferenciálním počtu studujeme tzv. diferenciální rovnice, tj. rovnice obsahující neznámou funkci a její derivace, tak v diferenčním počtu diferenční rovnice představují rovnice o neznámé posloupnosti a jejích diferencí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Obdélník 13"/>
          <p:cNvSpPr/>
          <p:nvPr/>
        </p:nvSpPr>
        <p:spPr>
          <a:xfrm>
            <a:off x="928800" y="4071960"/>
            <a:ext cx="7929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Definic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Nech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ť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 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je funkce dvou prom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ných definovaná na 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en-GB" sz="2400" spc="-1" strike="noStrike" baseline="-25000">
                <a:solidFill>
                  <a:srgbClr val="001933"/>
                </a:solidFill>
                <a:latin typeface="Arial"/>
              </a:rPr>
              <a:t>r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 </a:t>
            </a:r>
            <a:r>
              <a:rPr b="1" i="1" lang="en-GB" sz="2400" spc="-1" strike="noStrike">
                <a:solidFill>
                  <a:srgbClr val="001933"/>
                </a:solidFill>
                <a:latin typeface="Symbol"/>
                <a:ea typeface="Symbol"/>
              </a:rPr>
              <a:t>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 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ovnic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           o neznámé posloupnosti pro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1933"/>
                </a:solidFill>
                <a:latin typeface="Symbol"/>
                <a:ea typeface="Symbol"/>
              </a:rPr>
              <a:t>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1933"/>
                </a:solidFill>
                <a:latin typeface="Arial"/>
              </a:rPr>
              <a:t>r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e nazývá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diferenční rovnice 1. řádu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v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1933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 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2143080" y="4857840"/>
                <a:ext cx="1928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193-2101-4E64-A711-379F73C84F0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Obdélník 6"/>
          <p:cNvSpPr/>
          <p:nvPr/>
        </p:nvSpPr>
        <p:spPr>
          <a:xfrm>
            <a:off x="785880" y="1928880"/>
            <a:ext cx="821520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šit danou diferen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ní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rovnici znamená nalézt posloupnost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yhovující dané rovnici pro všechna 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en-GB" sz="2400" spc="-1" strike="noStrike">
                <a:solidFill>
                  <a:srgbClr val="001933"/>
                </a:solidFill>
                <a:latin typeface="Symbol"/>
                <a:ea typeface="Symbol"/>
              </a:rPr>
              <a:t>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1" i="1" lang="en-GB" sz="2400" spc="-1" strike="noStrike" baseline="-25000">
                <a:solidFill>
                  <a:srgbClr val="001933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 , tj. pro všechna 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n = r, r+1, </a:t>
            </a:r>
            <a:r>
              <a:rPr b="1" i="1" lang="en-GB" sz="2400" spc="-1" strike="noStrike">
                <a:solidFill>
                  <a:srgbClr val="001933"/>
                </a:solidFill>
                <a:latin typeface="Symbol"/>
                <a:ea typeface="Symbol"/>
              </a:rPr>
              <a:t></a:t>
            </a:r>
            <a:r>
              <a:rPr b="1" i="1" lang="en-GB" sz="24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Řešení závislé na obecné konstantě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C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e nazývá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obecné řeše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krétní volbou konstanty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dostáváme tzv.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artikulární řeše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; je tedy obecné řešení vzorcem popisujícím množinu všech partikulárních řeše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rtikulární řešení lze sestrojit z obecného také jinak než dosazením za konstantu, a to pomocí tzv.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očátečních podmínek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Jsou to souřadnice bodu, jímž má graf partikulárního řešení procháze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"/>
              <p:cNvSpPr txBox="1"/>
              <p:nvPr/>
            </p:nvSpPr>
            <p:spPr>
              <a:xfrm>
                <a:off x="928800" y="2357280"/>
                <a:ext cx="571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B73-578C-48F8-9177-D62F1D2FC44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ineární 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Obdélník 6"/>
          <p:cNvSpPr/>
          <p:nvPr/>
        </p:nvSpPr>
        <p:spPr>
          <a:xfrm>
            <a:off x="785880" y="1928880"/>
            <a:ext cx="792936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Definic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vn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 neznámé posloupnosti     , kde posloupnosti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(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1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(n)), (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2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(n)), 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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(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k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(n)), (q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sou definovány v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003366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se nazývá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lineární diferenční rovnice k‑tého řádu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v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r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V případě nulové pravé strany, tj.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q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= 0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v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r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hovoříme o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krácené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rovni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ále označuje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Symbol"/>
                <a:ea typeface="Symbol"/>
              </a:rPr>
              <a:t>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becné řešení lineární rovnic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Symbol"/>
                <a:ea typeface="Symbol"/>
              </a:rPr>
              <a:t>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rtikulární řešení lineární rovnic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Symbol"/>
                <a:ea typeface="Symbol"/>
              </a:rPr>
              <a:t>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becné řešení zkrácené rovnic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"/>
              <p:cNvSpPr txBox="1"/>
              <p:nvPr/>
            </p:nvSpPr>
            <p:spPr>
              <a:xfrm>
                <a:off x="3429000" y="1928880"/>
                <a:ext cx="571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928800" y="6072120"/>
                <a:ext cx="928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4357800" y="2357280"/>
                <a:ext cx="64296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3"/>
              <p:cNvSpPr txBox="1"/>
              <p:nvPr/>
            </p:nvSpPr>
            <p:spPr>
              <a:xfrm>
                <a:off x="928800" y="5500800"/>
                <a:ext cx="928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928800" y="5072040"/>
                <a:ext cx="857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8793-DFB3-4C95-9B56-BA210BFF44D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ineární 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Obdélník 6"/>
          <p:cNvSpPr/>
          <p:nvPr/>
        </p:nvSpPr>
        <p:spPr>
          <a:xfrm>
            <a:off x="928800" y="1928880"/>
            <a:ext cx="778644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Věta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 o množině řešení lineární rovni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šechna řešení lineární rovnice vytvoříme tak, že k jednomu pevně zvolenému řešení této rovnice přičteme všechna řešení příslušné rovnice zkrácené, nebo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 </a:t>
            </a:r>
            <a:r>
              <a:rPr b="1" i="1" lang="en-GB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en-GB" sz="2400" spc="-1" strike="noStrike">
                <a:solidFill>
                  <a:srgbClr val="000408"/>
                </a:solidFill>
                <a:latin typeface="Symbol"/>
                <a:ea typeface="Symbol"/>
              </a:rPr>
              <a:t></a:t>
            </a:r>
            <a:r>
              <a:rPr b="1" i="1" lang="en-GB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en-GB" sz="2400" spc="-1" strike="noStrike" baseline="-25000">
                <a:solidFill>
                  <a:srgbClr val="000408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 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"/>
              <p:cNvSpPr txBox="1"/>
              <p:nvPr/>
            </p:nvSpPr>
            <p:spPr>
              <a:xfrm>
                <a:off x="1023840" y="3548160"/>
                <a:ext cx="2354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B53-55F5-4B2E-851E-ABBE43904ED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3366"/>
                </a:solidFill>
                <a:latin typeface="Arial"/>
              </a:rPr>
              <a:t>Zkrácená diferenční rovnice s konstantními koeficienty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Obdélník 6"/>
          <p:cNvSpPr/>
          <p:nvPr/>
        </p:nvSpPr>
        <p:spPr>
          <a:xfrm>
            <a:off x="785880" y="1857240"/>
            <a:ext cx="79293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važujme zkrácenou rovn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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0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kde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1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2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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k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reálné konstanty. Předpokládejme dále, že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k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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0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Řešením zkrácené rovnice je posloupnost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y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= 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</a:t>
            </a:r>
            <a:r>
              <a:rPr b="1" i="1" lang="cs-CZ" sz="2400" spc="-1" strike="noStrike" baseline="30000">
                <a:solidFill>
                  <a:srgbClr val="000408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; po dosazení uvedené posloupnosti do rovnice totiž dostává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kud tuto rovnici dělíme výrazem    , 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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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0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dostáváme tzv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charakteristickou  rovnici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příslušnou k zkrácené rovnic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anovení všech řešení závisí na typu kořenů charakteristické  rovni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"/>
              <p:cNvSpPr txBox="1"/>
              <p:nvPr/>
            </p:nvSpPr>
            <p:spPr>
              <a:xfrm>
                <a:off x="4714920" y="1857240"/>
                <a:ext cx="4286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2500200" y="4000680"/>
                <a:ext cx="570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857240" y="5357880"/>
                <a:ext cx="4459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5715000" y="4572000"/>
                <a:ext cx="4287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75F1-64EE-45EC-AEF2-F55DBDD840B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3366"/>
                </a:solidFill>
                <a:latin typeface="Arial"/>
              </a:rPr>
              <a:t>Lineární diferenční rovnice s konstantními koeficienty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bdélník 6"/>
          <p:cNvSpPr/>
          <p:nvPr/>
        </p:nvSpPr>
        <p:spPr>
          <a:xfrm>
            <a:off x="785880" y="1928880"/>
            <a:ext cx="835812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važujme  rovnic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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0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kde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1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2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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, 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k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reálné konstanty. Předpokládejme dále, že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p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k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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 0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latí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Věta o partikulárním řešení lineární rovnice s konstantními koeficient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chť pravá strana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q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=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,kde        je polynom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‑tého stupně. Potom je jedno partikul. řešení tvar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de       je vhodný polynom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‑tého stupně a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k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násobnost čísla </a:t>
            </a:r>
            <a:r>
              <a:rPr b="1" i="1" lang="cs-CZ" sz="2400" spc="-1" strike="noStrike">
                <a:solidFill>
                  <a:srgbClr val="000408"/>
                </a:solidFill>
                <a:latin typeface="Symbol"/>
                <a:ea typeface="Symbol"/>
              </a:rPr>
              <a:t>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ako kořen charakteristické rovni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3357720" y="1928880"/>
                <a:ext cx="5572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071960" y="4786200"/>
                <a:ext cx="1071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5715000" y="4857840"/>
                <a:ext cx="714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3"/>
              <p:cNvSpPr txBox="1"/>
              <p:nvPr/>
            </p:nvSpPr>
            <p:spPr>
              <a:xfrm>
                <a:off x="6858000" y="5214960"/>
                <a:ext cx="214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5"/>
              <p:cNvSpPr txBox="1"/>
              <p:nvPr/>
            </p:nvSpPr>
            <p:spPr>
              <a:xfrm>
                <a:off x="1428840" y="5715000"/>
                <a:ext cx="642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"/>
              <p:cNvSpPr txBox="1"/>
              <p:nvPr/>
            </p:nvSpPr>
            <p:spPr>
              <a:xfrm>
                <a:off x="1643040" y="3143160"/>
                <a:ext cx="2354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85880" y="2071440"/>
            <a:ext cx="81151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tah mez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nezávisle proměnn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osloupnos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diferencemi této posloup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194-21AB-4DE6-93A2-4294CDBA9C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3929040" y="3071880"/>
          <a:ext cx="50004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3071880"/>
                    <a:ext cx="5000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5214960" y="2643120"/>
          <a:ext cx="42876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4960" y="2643120"/>
                    <a:ext cx="4287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6429240" y="3571920"/>
          <a:ext cx="260064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3571920"/>
                    <a:ext cx="2600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5"/>
          <p:cNvGraphicFramePr/>
          <p:nvPr/>
        </p:nvGraphicFramePr>
        <p:xfrm>
          <a:off x="1785960" y="4214880"/>
          <a:ext cx="525780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5960" y="4214880"/>
                    <a:ext cx="52578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ovéPole 10"/>
          <p:cNvSpPr/>
          <p:nvPr/>
        </p:nvSpPr>
        <p:spPr>
          <a:xfrm>
            <a:off x="857160" y="4929120"/>
            <a:ext cx="30718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Řešení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obec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artikulár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ovéPole 11"/>
          <p:cNvSpPr/>
          <p:nvPr/>
        </p:nvSpPr>
        <p:spPr>
          <a:xfrm>
            <a:off x="4286160" y="54291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kční předpis posloup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Šipka doprava 12"/>
          <p:cNvSpPr/>
          <p:nvPr/>
        </p:nvSpPr>
        <p:spPr>
          <a:xfrm>
            <a:off x="4000680" y="5643720"/>
            <a:ext cx="71424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erenční rovnice 1. ty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bsahují di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erenční rovnice 2. ty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kurentní vzorec posloup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CE1-15B8-4F58-A07D-3416D1A4BE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57840" y="2428920"/>
          <a:ext cx="30798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2428920"/>
                    <a:ext cx="3079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"/>
          <p:cNvGraphicFramePr/>
          <p:nvPr/>
        </p:nvGraphicFramePr>
        <p:xfrm>
          <a:off x="2714760" y="5000760"/>
          <a:ext cx="3824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5000760"/>
                    <a:ext cx="3824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5" name="Přímá spojovací šipka 12"/>
          <p:cNvCxnSpPr/>
          <p:nvPr/>
        </p:nvCxnSpPr>
        <p:spPr>
          <a:xfrm flipH="1">
            <a:off x="6500160" y="3000240"/>
            <a:ext cx="1143720" cy="2215440"/>
          </a:xfrm>
          <a:prstGeom prst="straightConnector1">
            <a:avLst/>
          </a:prstGeom>
          <a:ln w="9360">
            <a:solidFill>
              <a:srgbClr val="003266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236" name="Object 4"/>
          <p:cNvGraphicFramePr/>
          <p:nvPr/>
        </p:nvGraphicFramePr>
        <p:xfrm>
          <a:off x="2857680" y="5786280"/>
          <a:ext cx="31143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5786280"/>
                    <a:ext cx="3114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28440" y="2214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ěmito vztahy převedeme rovnici 1. typu na rovnici 2. typ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6250-FCB1-44C1-8291-0DAA816E84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2928960" y="3000240"/>
          <a:ext cx="20718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000240"/>
                    <a:ext cx="2071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2571840" y="3643200"/>
          <a:ext cx="307188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643200"/>
                    <a:ext cx="3071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2286000" y="4357800"/>
          <a:ext cx="38577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357800"/>
                    <a:ext cx="38577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643040" y="5429160"/>
          <a:ext cx="64292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3040" y="5429160"/>
                    <a:ext cx="6429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rovn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FDF-98C2-4302-8021-939C7BD2E9C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Obsah přednášk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2920" y="2613600"/>
            <a:ext cx="81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erenční poč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sloupn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erenční rovn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257C-DEE3-4A34-B200-54D47D24D54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2600" y="1928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e řada možností, jak v matematickém modelu vyjádřit chování zásob v určitém odvětví ekonomiky, a to podle způsobu vyjádření zpoždění v dynamickém modelu (spojitě či nespojitě) a dále také podle toho, jaké vlivy připouštím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85880" y="321480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endogenní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: stav zásobovacího systému bude v libovolně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vzdáleném časovém okamžiku jednoznačně určen jeho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počátečními podmínkami a strukturními vlastnost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00040" y="435780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exogenní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:  stav systému bude jednoznačně určen jak strukturními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  vlastnostmi modelu a počátečními  podmínkami, tak i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  průběhem nezávislých  exogenních veličin (časová řada 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  nebo funkc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57160" y="5786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U nespojitých endogenních modelů existuje kromě tzv. postupného řešení obvykle i obecné řešení, kdežto u nespojitých exogenních modelů existuje pouze postupné řešení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říklad: Formulace mezoekonomického dynamického modelu zás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EC3C-E7C0-4E47-9B65-607A4BAC0D4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ferenční poče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Obdélník 6"/>
          <p:cNvSpPr/>
          <p:nvPr/>
        </p:nvSpPr>
        <p:spPr>
          <a:xfrm>
            <a:off x="928800" y="1928880"/>
            <a:ext cx="778644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 řadě problémů ekonomické praxe se setkáváme s funkcemi danými nikoli obecným funkčním předpisem, ale tabulkou funkčních hodno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a takto zadanou funkci lze pohlížet jako na (konečnou) posloupnos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dá se proto užitečné vybudovat pro posloupnosti teorii odpovídající diferenciálnímu počtu funkcí definovaných na intervalu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J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s pojmy odpovídajícími derivaci, integrálu a diferenciální rovnic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uto teorii nazvěme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diferenční počet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Dá se ukázat, že analogickým pojmům z diferenciálního a diferenčního počtu odpovídají i analogická tvrze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14240" y="1999800"/>
            <a:ext cx="8429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rmínem </a:t>
            </a:r>
            <a:r>
              <a:rPr b="0" i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osloupnost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budeme rozumět reálnou posloupnost definovanou na množ.                . Posloupnost budeme zapisovat                             . Např. posloup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 některých konkrétních situacích bude vhodnější posloupnost definovat na množině přirozených čísel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resp. na množině                          , kde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pevně zvolené přirozené číslo, nebo omezit se na konečné množiny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kde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r, t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přirozená čísla, </a:t>
            </a:r>
            <a:r>
              <a:rPr b="1" i="1" lang="cs-CZ" sz="2400" spc="-1" strike="noStrike">
                <a:solidFill>
                  <a:srgbClr val="001933"/>
                </a:solidFill>
                <a:latin typeface="Arial"/>
              </a:rPr>
              <a:t>r &lt; t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Pokud nebude definiční obor posloupnosti blíže specifikován, budeme předpokládat, že je roven </a:t>
            </a:r>
            <a:r>
              <a:rPr b="1" i="1" lang="cs-CZ" sz="2400" spc="-1" strike="noStrike">
                <a:solidFill>
                  <a:srgbClr val="000408"/>
                </a:solidFill>
                <a:latin typeface="Arial"/>
              </a:rPr>
              <a:t>N</a:t>
            </a:r>
            <a:r>
              <a:rPr b="1" i="1" lang="cs-CZ" sz="2400" spc="-1" strike="noStrike" baseline="-25000">
                <a:solidFill>
                  <a:srgbClr val="000408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B91-0EA1-4251-B9BB-60F7448BC7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odnadpis 2"/>
          <p:cNvSpPr/>
          <p:nvPr/>
        </p:nvSpPr>
        <p:spPr>
          <a:xfrm>
            <a:off x="500040" y="4000680"/>
            <a:ext cx="8115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d2b34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d2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5643720" y="2428920"/>
                <a:ext cx="157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3429000" y="2786040"/>
                <a:ext cx="2286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857160" y="3214800"/>
                <a:ext cx="4857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,6,9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2643120" y="4429080"/>
                <a:ext cx="2679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3"/>
              <p:cNvSpPr txBox="1"/>
              <p:nvPr/>
            </p:nvSpPr>
            <p:spPr>
              <a:xfrm>
                <a:off x="857160" y="5214960"/>
                <a:ext cx="2428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56800" y="2000160"/>
            <a:ext cx="81154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sloupnost je nespojitá (diskrétní) funk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definiční  ob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obor hodno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graf – izolované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 dána posloupnost čísel                               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F418-6092-4021-91CB-FE6A655EBF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4429080" y="2571840"/>
          <a:ext cx="10717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2571840"/>
                    <a:ext cx="1071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4000680" y="3071880"/>
          <a:ext cx="1120680" cy="42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3071880"/>
                    <a:ext cx="112068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odnadpis 2"/>
          <p:cNvSpPr/>
          <p:nvPr/>
        </p:nvSpPr>
        <p:spPr>
          <a:xfrm>
            <a:off x="500040" y="4000680"/>
            <a:ext cx="8115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d2b34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d2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5500800" y="4286160"/>
          <a:ext cx="290988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0800" y="4286160"/>
                    <a:ext cx="2909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85520" y="2357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sloupnost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dový graf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Zástupný symbol pro číslo snímku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5F1-66A6-4606-9F10-C1AB696546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429000" y="2071800"/>
          <a:ext cx="25052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71800"/>
                    <a:ext cx="2505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>
            <a:off x="0" y="228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0" y="9050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7" descr=""/>
          <p:cNvPicPr/>
          <p:nvPr/>
        </p:nvPicPr>
        <p:blipFill>
          <a:blip r:embed="rId3"/>
          <a:stretch/>
        </p:blipFill>
        <p:spPr>
          <a:xfrm>
            <a:off x="3143160" y="3143160"/>
            <a:ext cx="5857920" cy="3571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85880" y="1856880"/>
            <a:ext cx="794376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ní diference posloupnosti v b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díl mezi dvěma po sobě jdoucími členy posloupnos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ní diference posloupnosti v bodě tvoří posloup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Zástupný symbol pro číslo snímku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2ED-A929-40A3-9A12-92AEC99B38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4143240" y="2714760"/>
          <a:ext cx="407196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2714760"/>
                    <a:ext cx="4071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1357200" y="3857760"/>
          <a:ext cx="231804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857760"/>
                    <a:ext cx="23180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3143160" y="5929200"/>
          <a:ext cx="528660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5929200"/>
                    <a:ext cx="52866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28440" y="20714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upcový gra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BF9-D9D1-48E2-9FC9-0A48139EFD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Skupina 16"/>
          <p:cNvGrpSpPr/>
          <p:nvPr/>
        </p:nvGrpSpPr>
        <p:grpSpPr>
          <a:xfrm>
            <a:off x="1357200" y="2428920"/>
            <a:ext cx="7072560" cy="3929040"/>
            <a:chOff x="1357200" y="2428920"/>
            <a:chExt cx="7072560" cy="3929040"/>
          </a:xfrm>
        </p:grpSpPr>
        <p:pic>
          <p:nvPicPr>
            <p:cNvPr id="119" name="Graf 5" descr=""/>
            <p:cNvPicPr/>
            <p:nvPr/>
          </p:nvPicPr>
          <p:blipFill>
            <a:blip r:embed="rId1"/>
            <a:stretch/>
          </p:blipFill>
          <p:spPr>
            <a:xfrm>
              <a:off x="1357200" y="2428920"/>
              <a:ext cx="7072560" cy="39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římá spojovací čára 7"/>
            <p:cNvSpPr/>
            <p:nvPr/>
          </p:nvSpPr>
          <p:spPr>
            <a:xfrm>
              <a:off x="6211440" y="4643640"/>
              <a:ext cx="1874880" cy="4680"/>
            </a:xfrm>
            <a:prstGeom prst="line">
              <a:avLst/>
            </a:prstGeom>
            <a:ln w="93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Přímá spojovací čára 10"/>
            <p:cNvSpPr/>
            <p:nvPr/>
          </p:nvSpPr>
          <p:spPr>
            <a:xfrm>
              <a:off x="7368480" y="3762720"/>
              <a:ext cx="632160" cy="1440"/>
            </a:xfrm>
            <a:prstGeom prst="line">
              <a:avLst/>
            </a:prstGeom>
            <a:ln w="93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22" name="Přímá spojovací šipka 15"/>
            <p:cNvCxnSpPr/>
            <p:nvPr/>
          </p:nvCxnSpPr>
          <p:spPr>
            <a:xfrm flipH="1">
              <a:off x="7921440" y="3718440"/>
              <a:ext cx="2160" cy="959040"/>
            </a:xfrm>
            <a:prstGeom prst="straightConnector1">
              <a:avLst/>
            </a:prstGeom>
            <a:ln w="31680">
              <a:solidFill>
                <a:srgbClr val="3e0aa6"/>
              </a:solidFill>
              <a:miter/>
              <a:headEnd len="med" type="arrow" w="med"/>
              <a:tailEnd len="med" type="arrow" w="med"/>
            </a:ln>
          </p:spPr>
        </p:cxnSp>
      </p:grpSp>
      <p:graphicFrame>
        <p:nvGraphicFramePr>
          <p:cNvPr id="123" name="Object 2"/>
          <p:cNvGraphicFramePr/>
          <p:nvPr/>
        </p:nvGraphicFramePr>
        <p:xfrm>
          <a:off x="8072280" y="4000680"/>
          <a:ext cx="667080" cy="57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2280" y="4000680"/>
                    <a:ext cx="667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14240" y="18568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é diference posloupnosti v b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díl mezi dvěma po sobě jdoucími členy posloupnosti prvních diferen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Zástupný symbol pro číslo snímku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D0D-8FF7-4C51-A2FD-EA262A3600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1"/>
          <p:cNvGraphicFramePr/>
          <p:nvPr/>
        </p:nvGraphicFramePr>
        <p:xfrm>
          <a:off x="2928960" y="3214800"/>
          <a:ext cx="307188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214800"/>
                    <a:ext cx="30718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"/>
          <p:cNvGraphicFramePr/>
          <p:nvPr/>
        </p:nvGraphicFramePr>
        <p:xfrm>
          <a:off x="1785960" y="5000760"/>
          <a:ext cx="592920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5000760"/>
                    <a:ext cx="59292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4"/>
          <p:cNvGraphicFramePr/>
          <p:nvPr/>
        </p:nvGraphicFramePr>
        <p:xfrm>
          <a:off x="3143160" y="6215040"/>
          <a:ext cx="29289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6215040"/>
                    <a:ext cx="2928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6929280" y="1928880"/>
          <a:ext cx="200052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29280" y="1928880"/>
                    <a:ext cx="20005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sloupno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5:09:30Z</dcterms:created>
  <dc:creator>sed02</dc:creator>
  <dc:description/>
  <dc:language>en-US</dc:language>
  <cp:lastModifiedBy>sed02</cp:lastModifiedBy>
  <dcterms:modified xsi:type="dcterms:W3CDTF">2010-04-08T10:07:56Z</dcterms:modified>
  <cp:revision>520</cp:revision>
  <dc:subject/>
  <dc:title>Snímek 1</dc:title>
</cp:coreProperties>
</file>