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9760" y="693360"/>
            <a:ext cx="45784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B09FBC-D77D-405F-B2CA-8189F2D9A097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BEC478-DCE1-46B8-85AC-CB88A70D1199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788E6B-11A4-486E-879D-6F467B59E4E7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námk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129F2D-D179-4C25-8A9E-B23E9E15CD54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76C572-E0F3-4AB0-82F7-FE9110AC6CC2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3640" y="687240"/>
            <a:ext cx="4592520" cy="3443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CDD11D-0085-4AC9-A10C-CA0B6DB9750E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54A07F-E90B-49E2-B0F9-1C192BCDAB1B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3640" y="687240"/>
            <a:ext cx="4592520" cy="3443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C25891-E37D-44A7-B2F4-A717E8DB6A52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864FAD-7CC0-4094-A1A9-036AF1BCD784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82E217-3AED-40DE-9ED7-22BBF838AA47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3640" y="687240"/>
            <a:ext cx="4592520" cy="3443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58880"/>
            <a:ext cx="548640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26DE4A-AE98-4A52-9B7E-830C58331F28}" type="slidenum">
              <a:rPr b="0" i="1" lang="en-GB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C71CC3-2F31-4838-8195-9A20591AB482}" type="slidenum">
              <a:rPr b="0" i="1" lang="en-GB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DD0DBA-1585-46C2-A2D1-568F3613C714}" type="slidenum">
              <a:rPr b="0" i="1" lang="en-GB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7E3116-D38F-4C78-BA67-35A4B0321C09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91A05B-C8FE-4947-9ABA-383FF268D37E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37A-BD4D-4C5D-8A2F-CB6940CA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450-E8D0-4346-BE93-D0F7CEA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D52-75C6-47DF-A04A-3604789B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7AA-7FDE-4324-8972-D6A97CEF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A5D-54B5-4D32-B3D5-38E3D35E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854-EB4D-4DB1-9843-54F9AA0A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8A0-90DF-4B93-8184-9C3F74E4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273-3E18-47EB-BA8E-5065C16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317-B7BB-4311-B01E-26B29F6E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EA4-C238-495C-908D-7208CDD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DEA-D58D-4B3B-8E48-5C47B3B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EDE-DEC5-40A3-BE49-03F64A5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20AF-9EFF-47EE-8E16-C0E6AA2674D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etr.seda@vsb.cz" TargetMode="External"/><Relationship Id="rId2" Type="http://schemas.openxmlformats.org/officeDocument/2006/relationships/hyperlink" Target="mailto:etr.seda@vsb.cz" TargetMode="External"/><Relationship Id="rId3" Type="http://schemas.openxmlformats.org/officeDocument/2006/relationships/hyperlink" Target="mailto:etr.seda@vsb.cz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00A4-2B93-4E19-8EFE-B48F0F51E73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ka 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971640" y="5734080"/>
            <a:ext cx="7529400" cy="34542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náška č.1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8" name="Object 14"/>
          <p:cNvGraphicFramePr/>
          <p:nvPr/>
        </p:nvGraphicFramePr>
        <p:xfrm>
          <a:off x="7885080" y="5732640"/>
          <a:ext cx="10987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5732640"/>
                    <a:ext cx="10987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7"/>
          <p:cNvSpPr/>
          <p:nvPr/>
        </p:nvSpPr>
        <p:spPr>
          <a:xfrm>
            <a:off x="2879640" y="342900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Úvod do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9720" y="2142720"/>
            <a:ext cx="7729560" cy="371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isciplína, která se zabývá celkovou optimalizací, koordinací a synchronizací všech aktivit v rámci samoorganizujících se systémů, jejichž zřetězení je nezbytné k pružnému a hospodárnému dosažení daného konečného (synergického) efektu. /Pernica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oderní pojetí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F33C-923F-4AD9-8DB8-211DE8C500F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43000" y="2214360"/>
            <a:ext cx="74296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istika je interdisciplinární vědní obor zabývající se problematikou efektivního řízení fyzických toků a s nimi souvisejících hodnotových a informačních toků, v určitém technickém, ekonomickém, organizačním nebo regionálním systému a v jeho okolí za účelem dosažení cílů  tohoto systému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efinice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85880" y="2162160"/>
            <a:ext cx="7981920" cy="46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duktem rozumíme výsledek činnosti, proce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duktem může bý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výrobe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služb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kombinace výrobku a služby. </a:t>
            </a:r>
            <a:br>
              <a:rPr sz="30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Typy produkt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sloupnost stavů pohybu a přerušení pohybu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 uspokojování požadavků po produktech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hyb kvant jedním směrem</a:t>
            </a:r>
            <a:r>
              <a:rPr b="1" lang="cs-CZ" sz="3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Tokem se v logistice rozumí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43000" y="1999800"/>
            <a:ext cx="7486560" cy="442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bjektem logistiky jsou tedy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tok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 Toky mohou nabývat tří dimenzí, které jsou vzájemně úzce propojen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Fyzické tok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oky surovin, materiálů, rozpracovaných výrobků, obalů, odpadu, zmetků, osob, nosičů informací, dopravních prostředků ap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menze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71360" y="2071800"/>
            <a:ext cx="7629480" cy="39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.    Informační tok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 požadavcích zákazníků, toky řídících informací, toky informací o průběhu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výsledcích fyzických a peněžních toků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.   Peněžní tok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oky peněžních příjmů a výdajů spojených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 fyzickými a informačními tok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imenze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85880" y="2142720"/>
            <a:ext cx="8035920" cy="40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šechny tři dimenze toků musejí být sladěny. Jestliže tomu tak není, dochází k poruchá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cké řízení by mělo předejít nežádoucím situacím, kdy kupříkladu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hotovy konstrukční výkresy a výrobní postupy, avšak nebyl dosud dodán materiál potřebný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 výrobu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utnost sladění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71720" y="2071440"/>
            <a:ext cx="7821360" cy="43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akázka je hotova, avšak nemůže být odeslána, neboť se čeká na vyhotovení průvodních dokladů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akázka je zákazníkovi dodána, avšak jeho platební nekázeň  ohrožuje nastartování nového výrobního cyklu u dodavate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Nutnost sladění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57160" y="2214360"/>
            <a:ext cx="7686720" cy="435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cký cíl je komplexem dílčích cílů, které je potřebné naplňovat současně. Stručně jej lze formulovat tak, že jde 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fektivní překonání prostoru a času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 uspokojování požadavků po produktech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cký cí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00080" y="2356920"/>
            <a:ext cx="7686720" cy="379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krétně to znamená, že logistickým cílem j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osažení vysoké úrovně logistických (dodavatelských) služeb při přijatelných celkových nákladech všech zúčastněných článků, a to opakovatelným způsobe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cký cí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30D-3ECB-4FEA-B76E-9F6982D5F36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Obsah přednáš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148760" y="2068560"/>
            <a:ext cx="67705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Úvod do předmětu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iteratura, studijní materiál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efinice logistik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dmět logistik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ztah logistiky k ostatním vědním disciplíná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yužití exaktních metod v logisti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71360" y="2361960"/>
            <a:ext cx="745956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ka má dvě složky, které jsou vzájemně úzce propojeny. Jsou jim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ická logis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cké řízení (neboli Logistický manage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2 složky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28800" y="2143080"/>
            <a:ext cx="77580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jektování a provozování manipulačních, skladovacích, dopravních a identifikačních zařízení a systémů, dopravní infrastruktury apo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mítnutí logisticky významných znaků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o konstrukce výrobků a návrhu služeb jakož i do postupů jejich zajišťování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Technická logistika zahrnuj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43000" y="1773000"/>
            <a:ext cx="746136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ěmito logisticky významnými znaky jsou například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užívání standardizovaných komponent výrobků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tavebnicovost výrobků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dnoduchost výrobků a procesů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dalš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Technická logistika zahrnuj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1360" y="1785960"/>
            <a:ext cx="7615080" cy="43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cké řízení zahrnuje dvě skupiny vzájemně propojených aktivi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rganizování toků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směrňování toků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42920" y="4800600"/>
            <a:ext cx="68421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yužívá  příslušné postupy, pracovníky, informační systémy, metody a technik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cké řízení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85520" y="1856880"/>
            <a:ext cx="817884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rganizování toků představuje  zejmén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spořádání pracovišť, skladů, distribučních center apod. v prostoru (location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rčení dělby práce mezi pracovišti a časových režimů jejich činnosti (provozní doba, směnnost, rozložení času práce a přestávek apod.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rčení velikosti kapacit jednotlivých pracovišť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Organizování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85520" y="2000160"/>
            <a:ext cx="8178840" cy="44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nitřní prostorové uspořádání pracovišť, určování rozmístění položek ve skladu (lay-out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zhodování o organizaci práce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(o velikosti dávek, o způsobu předávání úkolů mezi pracovišti, o organizaci ukládání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vychystávání položek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lánování úkolů (co, kdy, kde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zhodování o velikosti zásob a režimech jejich doplň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Organizování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28800" y="2071800"/>
            <a:ext cx="7627680" cy="44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směrňování toků je řízením v užším slova smyslu. Zahrnuj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jímání zákaznických objednávek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jejich správu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dávání úkolů pracovištím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vlivňování průběhu procesů,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by probíhaly žádoucím způsobem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onitorování a vyhodnocování procesů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ydávání podnětů pro zlepšování toků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Usměrňování toků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rganizování znamená uspořádávání věcí.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á statický charak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směrňování  znamená uvádění procesů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o chodu, jejich ovlivňování i zastavování. Vnáší do systémů život, má tedy dynamický charak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ztah mezi organizováním a usměrňováním toků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ím jsou procesy lépe zorganizovány, tím menší může být rozsah samotného říze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a druhé straně však musíme dávat pozor,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by nedošlo k „přeorganizování“, které dává jen malou volnost pracovníkům a které může vést k těžkopádné reakci na změn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ztah mezi organizováním a usměrňováním toků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28800" y="1928880"/>
            <a:ext cx="7834320" cy="44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cké řízení využívá těchto vzájemně propojených forem svého působení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ntegrování,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ordinování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ynchronizová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šech článků logistické sítě tak, aby docházelo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 jejich promyšlené součinnosti a tím k dosažení synergických efektů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571920" y="2714760"/>
            <a:ext cx="5285880" cy="1676160"/>
            <a:chOff x="3571920" y="2714760"/>
            <a:chExt cx="5285880" cy="1676160"/>
          </a:xfrm>
        </p:grpSpPr>
        <p:sp>
          <p:nvSpPr>
            <p:cNvPr id="124" name="Oval 5"/>
            <p:cNvSpPr/>
            <p:nvPr/>
          </p:nvSpPr>
          <p:spPr>
            <a:xfrm>
              <a:off x="4527000" y="2714760"/>
              <a:ext cx="2925720" cy="900000"/>
            </a:xfrm>
            <a:prstGeom prst="ellipse">
              <a:avLst/>
            </a:prstGeom>
            <a:solidFill>
              <a:srgbClr val="ffff99"/>
            </a:solidFill>
            <a:ln w="34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5201640" y="2993760"/>
              <a:ext cx="17460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3366"/>
                  </a:solidFill>
                  <a:latin typeface="Arial"/>
                </a:rPr>
                <a:t>Integrace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Oval 7"/>
            <p:cNvSpPr/>
            <p:nvPr/>
          </p:nvSpPr>
          <p:spPr>
            <a:xfrm>
              <a:off x="3571920" y="3428640"/>
              <a:ext cx="2700000" cy="962280"/>
            </a:xfrm>
            <a:prstGeom prst="ellipse">
              <a:avLst/>
            </a:prstGeom>
            <a:solidFill>
              <a:srgbClr val="ffccff"/>
            </a:solidFill>
            <a:ln w="34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3850920" y="3739320"/>
              <a:ext cx="191376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3366"/>
                  </a:solidFill>
                  <a:latin typeface="Arial"/>
                </a:rPr>
                <a:t>Koordinace</a:t>
              </a: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9"/>
            <p:cNvSpPr/>
            <p:nvPr/>
          </p:nvSpPr>
          <p:spPr>
            <a:xfrm>
              <a:off x="5876280" y="3335400"/>
              <a:ext cx="2981520" cy="1024560"/>
            </a:xfrm>
            <a:prstGeom prst="ellipse">
              <a:avLst/>
            </a:prstGeom>
            <a:solidFill>
              <a:srgbClr val="ffcc99"/>
            </a:solidFill>
            <a:ln w="34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6383520" y="3707640"/>
              <a:ext cx="224964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cs-CZ" sz="2000" spc="-1" strike="noStrike">
                  <a:solidFill>
                    <a:srgbClr val="003366"/>
                  </a:solidFill>
                  <a:latin typeface="Arial"/>
                </a:rPr>
                <a:t>Synchronizace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Způsob realizace logistického řízen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6BB3-1E70-4F9E-8058-7EF62267679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57240" y="2274480"/>
            <a:ext cx="666288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g. Petr Seďa, Ph.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etr.seda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vsb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. 59 732 25 1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Kontakt na vyučujícíh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28440" y="2071440"/>
            <a:ext cx="7643880" cy="43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jednocování (pravidel činnosti, zájmů apod.),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pojování článků ve vyšší celek tak, aby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e docílilo zvýšení soudržnosti systém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ěkteré příklady integrování v logisti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pojování dodavatelů a odběratelů společnými informačními systémy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 sledování stavů zásob, sdílení informací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 plánech výroby odběratele apod.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jednocení ukazatelů pro motivaci různých navazujících útvarů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Integrován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2640" y="2071800"/>
            <a:ext cx="7620120" cy="41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vádění navazujících činností do souladu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ajištění spolupráce, souh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ěkteré příklady koordinování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laďování plánů výroby na jedné straně s plány údržby a oprav výrobních zařízení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usměrňování dodávek komponent od různých dodavatelů ke společné montáž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Koordinován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9720" y="1999800"/>
            <a:ext cx="7697880" cy="45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asové slaďování činnosti navazujících článků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 plné synchronizaci jsou toky plynulé, nikde se nečeká, všechny operace jsou stejně dlouh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jevy nesynchroniza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ekání obsluhy (pracovníka, výrobního zařízení, dopravního prostředku) na příchod požadavku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 předchozího článku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nebo čekání požadavku na uvolnění obsluh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Synchronizován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85560" y="2143080"/>
            <a:ext cx="741204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efektem ze součinnosti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stliže zúčastněné články spolupracují,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k výsledný efekt je větší než součet efektů izolovaně fungujících článků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asto se vyjadřuje podstata synergického efektu rovnicí 1 + 1 =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Synergický efek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0C2-8730-47BE-BF81-1E2FB9419C7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928800" y="2000160"/>
            <a:ext cx="800100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ptimální geografická lokalizace (umístění, rozmístění) logistických systémů,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jich vnější a vnitřní prostorové, technické (věcné) a funkční uspořádání,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avrhování a zavádění logistických systémů řízení (výběr metod a algoritmů řízení a plánování, výběrem vhodného logistického informačního a komunikačního systému, atd.),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gnózování, plánování, rozhodování, zabezpečování (realizací), monitorování a průběžné hodnocení logistických výkonů at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ředmět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CF51-661A-4219-B356-B8C643A42F8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85520" y="3000240"/>
            <a:ext cx="835812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I. Obecná logis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filosofie, strategie, logistické procesy a systém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áklady, rentabilita, produktivi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II. Mikrologistika (logistika organizac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průmyslová, obchodní, logistika služeb, organizací st. sprá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III. Metalogistika (logistická kooperace mezi organizacem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logistické řetězce, kooperace na národní a mezinárodní úrov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IV. Makrologistika (logistika regionálních nebo odvětvových celků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subregionů, regionů, měst, států, integračních celk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logistika ekonomických odvětv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3357720" y="1928880"/>
            <a:ext cx="2654280" cy="761760"/>
          </a:xfrm>
          <a:prstGeom prst="ellipse">
            <a:avLst/>
          </a:prstGeom>
          <a:solidFill>
            <a:srgbClr val="95c9ff">
              <a:alpha val="50000"/>
            </a:srgbClr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Logistik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3285720" y="2571840"/>
            <a:ext cx="428760" cy="21420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5715000" y="2571840"/>
            <a:ext cx="571680" cy="14292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286680" y="2500200"/>
            <a:ext cx="2431800" cy="4762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ojenská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857160" y="2500200"/>
            <a:ext cx="2425680" cy="470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spodářská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Členění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1C39-953C-42A6-9676-916C2D2FCA7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Oval 2"/>
          <p:cNvSpPr/>
          <p:nvPr/>
        </p:nvSpPr>
        <p:spPr>
          <a:xfrm>
            <a:off x="3286080" y="3143160"/>
            <a:ext cx="2654280" cy="1000080"/>
          </a:xfrm>
          <a:prstGeom prst="ellipse">
            <a:avLst/>
          </a:prstGeom>
          <a:solidFill>
            <a:srgbClr val="adebeb">
              <a:alpha val="50000"/>
            </a:srgbClr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28800" y="2000160"/>
            <a:ext cx="2676240" cy="76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28800" y="2000160"/>
            <a:ext cx="26226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eorie managementu a organiza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214800" y="3357720"/>
            <a:ext cx="297180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ISTIK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072120" y="2214720"/>
            <a:ext cx="281952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143760" y="2214720"/>
            <a:ext cx="26222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rketin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28800" y="2857680"/>
            <a:ext cx="228276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928800" y="2928960"/>
            <a:ext cx="22287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Operační výzkum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357960" y="3000240"/>
            <a:ext cx="242568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6429240" y="3000240"/>
            <a:ext cx="22291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Ekonomická teori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928800" y="3643200"/>
            <a:ext cx="2211120" cy="164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857160" y="3643200"/>
            <a:ext cx="22291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ystémy hromadné obsluhy a simulace Monte Carl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86680" y="4000680"/>
            <a:ext cx="2425680" cy="7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6357960" y="3929040"/>
            <a:ext cx="235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ntitativní metody a statistik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857160" y="5429160"/>
            <a:ext cx="26640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857160" y="5429160"/>
            <a:ext cx="261000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ystémová analýza a 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yntéz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6072120" y="5072040"/>
            <a:ext cx="2806920" cy="7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6286680" y="5000760"/>
            <a:ext cx="2609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Ekonometrie a prognostik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3500280" y="6357960"/>
            <a:ext cx="2362320" cy="324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3000240" y="6357960"/>
            <a:ext cx="352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rojektové řízení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 flipV="1">
            <a:off x="3571560" y="2714400"/>
            <a:ext cx="747720" cy="43164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 flipV="1">
            <a:off x="3142800" y="3214800"/>
            <a:ext cx="428760" cy="7128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3142800" y="4000680"/>
            <a:ext cx="428760" cy="21420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3286080" y="4071960"/>
            <a:ext cx="642960" cy="135720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5214960" y="4143240"/>
            <a:ext cx="857160" cy="100044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5572080" y="4000680"/>
            <a:ext cx="757440" cy="28548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5786280" y="3429000"/>
            <a:ext cx="571680" cy="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 flipV="1">
            <a:off x="5214960" y="2714760"/>
            <a:ext cx="928800" cy="46656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39"/>
          <p:cNvSpPr/>
          <p:nvPr/>
        </p:nvSpPr>
        <p:spPr>
          <a:xfrm>
            <a:off x="4572000" y="4143240"/>
            <a:ext cx="0" cy="214344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3366"/>
                </a:solidFill>
                <a:latin typeface="Arial"/>
              </a:rPr>
              <a:t>Vztah logistiky k ostatním disciplínám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Zaoblený obdélník 39"/>
          <p:cNvSpPr/>
          <p:nvPr/>
        </p:nvSpPr>
        <p:spPr>
          <a:xfrm>
            <a:off x="4214880" y="48578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76B-05B0-4EFB-A7D2-CE0698A80C1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857160" y="2357280"/>
            <a:ext cx="756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matematick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928800" y="2857680"/>
            <a:ext cx="748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simulační (Monte Carlo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785880" y="3357720"/>
            <a:ext cx="749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heuristické (delfská atd.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928800" y="3929040"/>
            <a:ext cx="8215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metody operačního výzkumu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(dopravní úlohy, lineární programování, optimal.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modely teorie zásob, modely hromadné obsluhy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28800" y="5072040"/>
            <a:ext cx="392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- strukturní model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xaktní metody v logisti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8FFE-BE9F-4DA8-9E35-1CD285D17A6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Oval 1029"/>
          <p:cNvSpPr/>
          <p:nvPr/>
        </p:nvSpPr>
        <p:spPr>
          <a:xfrm>
            <a:off x="2786040" y="1928880"/>
            <a:ext cx="3456000" cy="928800"/>
          </a:xfrm>
          <a:prstGeom prst="ellipse">
            <a:avLst/>
          </a:prstGeom>
          <a:solidFill>
            <a:srgbClr val="d5e9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Z hlediska ekonomické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úrovně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Oval 1030"/>
          <p:cNvSpPr/>
          <p:nvPr/>
        </p:nvSpPr>
        <p:spPr>
          <a:xfrm>
            <a:off x="3143160" y="3929040"/>
            <a:ext cx="3124440" cy="685800"/>
          </a:xfrm>
          <a:prstGeom prst="ellipse">
            <a:avLst/>
          </a:prstGeom>
          <a:solidFill>
            <a:srgbClr val="d5e9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Z hlediska „náhodnosti“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031"/>
          <p:cNvSpPr/>
          <p:nvPr/>
        </p:nvSpPr>
        <p:spPr>
          <a:xfrm flipH="1">
            <a:off x="1714320" y="2571840"/>
            <a:ext cx="1206360" cy="64296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032"/>
          <p:cNvSpPr/>
          <p:nvPr/>
        </p:nvSpPr>
        <p:spPr>
          <a:xfrm flipH="1">
            <a:off x="1928520" y="4286160"/>
            <a:ext cx="1214280" cy="32220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Line 1033"/>
          <p:cNvSpPr/>
          <p:nvPr/>
        </p:nvSpPr>
        <p:spPr>
          <a:xfrm>
            <a:off x="6286680" y="4286160"/>
            <a:ext cx="1214280" cy="35712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1034"/>
          <p:cNvSpPr/>
          <p:nvPr/>
        </p:nvSpPr>
        <p:spPr>
          <a:xfrm>
            <a:off x="6215040" y="2500200"/>
            <a:ext cx="1428840" cy="71460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Rectangle 1035"/>
          <p:cNvSpPr/>
          <p:nvPr/>
        </p:nvSpPr>
        <p:spPr>
          <a:xfrm>
            <a:off x="785880" y="3214800"/>
            <a:ext cx="251460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akroekonomick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1036"/>
          <p:cNvSpPr/>
          <p:nvPr/>
        </p:nvSpPr>
        <p:spPr>
          <a:xfrm>
            <a:off x="6324480" y="3214800"/>
            <a:ext cx="281952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ikroekonomick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1037"/>
          <p:cNvSpPr/>
          <p:nvPr/>
        </p:nvSpPr>
        <p:spPr>
          <a:xfrm>
            <a:off x="857160" y="4643280"/>
            <a:ext cx="253368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eterministick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1038"/>
          <p:cNvSpPr/>
          <p:nvPr/>
        </p:nvSpPr>
        <p:spPr>
          <a:xfrm>
            <a:off x="6286680" y="4643280"/>
            <a:ext cx="257148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tochastick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1039"/>
          <p:cNvSpPr/>
          <p:nvPr/>
        </p:nvSpPr>
        <p:spPr>
          <a:xfrm>
            <a:off x="3429000" y="3214800"/>
            <a:ext cx="26668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oekonomick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1040"/>
          <p:cNvSpPr/>
          <p:nvPr/>
        </p:nvSpPr>
        <p:spPr>
          <a:xfrm>
            <a:off x="4500720" y="2857680"/>
            <a:ext cx="0" cy="36036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Oval 1041"/>
          <p:cNvSpPr/>
          <p:nvPr/>
        </p:nvSpPr>
        <p:spPr>
          <a:xfrm>
            <a:off x="3214800" y="5143680"/>
            <a:ext cx="2743200" cy="857160"/>
          </a:xfrm>
          <a:prstGeom prst="ellipse">
            <a:avLst/>
          </a:prstGeom>
          <a:solidFill>
            <a:srgbClr val="d5e9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Z hlediska určení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avu systému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1042"/>
          <p:cNvSpPr/>
          <p:nvPr/>
        </p:nvSpPr>
        <p:spPr>
          <a:xfrm flipH="1">
            <a:off x="2286000" y="5643720"/>
            <a:ext cx="928800" cy="38736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1043"/>
          <p:cNvSpPr/>
          <p:nvPr/>
        </p:nvSpPr>
        <p:spPr>
          <a:xfrm>
            <a:off x="5929200" y="5572080"/>
            <a:ext cx="1071720" cy="500040"/>
          </a:xfrm>
          <a:prstGeom prst="line">
            <a:avLst/>
          </a:prstGeom>
          <a:ln w="9360">
            <a:solidFill>
              <a:srgbClr val="0032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044"/>
          <p:cNvSpPr/>
          <p:nvPr/>
        </p:nvSpPr>
        <p:spPr>
          <a:xfrm>
            <a:off x="928800" y="6072120"/>
            <a:ext cx="281916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dogenní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45"/>
          <p:cNvSpPr/>
          <p:nvPr/>
        </p:nvSpPr>
        <p:spPr>
          <a:xfrm>
            <a:off x="5857920" y="6072120"/>
            <a:ext cx="28195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xogenní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atematické modely v logisti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772-AF85-44DE-947A-899638AB8D9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71720" y="1785600"/>
            <a:ext cx="7448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ktivní účast na cvičeních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nalost látky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chopnost řešit samostatně zadané příklad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Požadavky na ukonče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3224-4E52-4390-94E2-ADD43062B186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71680" y="1928880"/>
            <a:ext cx="8572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1. Gros, I.: Logistika. VŠCHT, Praha 1996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. Jindra, J.: Obchodní logistika. VŠE, Praha 1992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. Lambert, D. M., Stock, J. R., Ellram, L. M.: Logistika. Computer Press, Praha 200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4. Macurová, P., Klabusayová, N.: Logistický management. VŠB-TU Ostrava, 199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5. Pernica, P.: Logistický management. Radix, Praha 1998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6. Schulte, P.: Logistika. Victoria Publ., Praha 1994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7. Věstová, K., Labská, E., Daňo, F.: Úvod do logistiky. VŠE, Bratislava 199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1DE-7B73-4C24-A47F-6063E472A94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analyzovat a řešit vybrané případové studie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nový pohled na možnosti uplatnění vybraných kvantitativních         a kvalitativních metod v logistice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přehled o možném využití kvantitativního aparátu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představu o přístupu k řešení vybraných logistických úloh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samostatně řešit úlohy spojené s logistikou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postupovat při analýzách zásobovacích systémů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řešit úlohy z oblasti řízení zásob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Cíle předmět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71720" y="2143080"/>
            <a:ext cx="7635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 pojmem logistika se dnes setkáváme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a každém kroku, avšak zatím se v praxi málo rozšířilo a vžilo její moderní chápání, které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 sebou nese šanci  významně zvýšit výkonnost podniků a celých dodavatelských řetězců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tále ještě mnohde přežívá úzké pojetí logistiky soustředěné jen na přemisťování zboží, manipulaci či skladování, tedy na některé operace spojené s fyzickým pohybem surovin, materiálů či výrobků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Co je to logistik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43000" y="2071800"/>
            <a:ext cx="7696080" cy="40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Tradiční (již překonané) pojetí logistik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hruba do 80. let 20.stol. byla logistika chápána poměrně úzce. Její funkce byly spatřovány především v oblasti dopravy či skladování, a to téměř výhradně na operativní úrovni řízení (jako je uskladňování a vychystávání zboží, určování časových režimů dopravy a dopravních tras apod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ka byla spojována jen s toky surovin, materiálů a hotových výrobků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Tradiční pojetí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56800" y="1928520"/>
            <a:ext cx="794412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Současné pojetí logistiky vystihují nejlépe následující defini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ogis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auka o toku, který se uskutečňuje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 uspokojování požadavků po produktech /Macurová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ces plánování, realizace a řízení efektivního, výkonného toku a skladování zboží, služeb 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souvisejících informací z místa vzniku do místa spotřeby, jehož cílem je uspokojit požadavky zákazníků /The Council of Logistics Management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042920" y="907920"/>
            <a:ext cx="7925040" cy="9273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Moderní pojetí logist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9:00:10Z</dcterms:created>
  <dc:creator>Danuše Bauerová</dc:creator>
  <dc:description/>
  <dc:language>en-US</dc:language>
  <cp:lastModifiedBy>sed02</cp:lastModifiedBy>
  <cp:lastPrinted>1998-09-10T10:11:28Z</cp:lastPrinted>
  <dcterms:modified xsi:type="dcterms:W3CDTF">2010-09-27T11:34:50Z</dcterms:modified>
  <cp:revision>229</cp:revision>
  <dc:subject/>
  <dc:title>bez titulu</dc:title>
</cp:coreProperties>
</file>